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80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</p:sldMasterIdLst>
  <p:notesMasterIdLst>
    <p:notesMasterId r:id="rId89"/>
  </p:notesMasterIdLst>
  <p:sldIdLst>
    <p:sldId id="256" r:id="rId90"/>
    <p:sldId id="257" r:id="rId91"/>
    <p:sldId id="258" r:id="rId92"/>
    <p:sldId id="259" r:id="rId93"/>
    <p:sldId id="260" r:id="rId94"/>
    <p:sldId id="261" r:id="rId95"/>
    <p:sldId id="262" r:id="rId96"/>
    <p:sldId id="263" r:id="rId97"/>
    <p:sldId id="264" r:id="rId98"/>
    <p:sldId id="265" r:id="rId99"/>
    <p:sldId id="266" r:id="rId100"/>
    <p:sldId id="267" r:id="rId101"/>
    <p:sldId id="268" r:id="rId102"/>
    <p:sldId id="269" r:id="rId103"/>
    <p:sldId id="270" r:id="rId104"/>
    <p:sldId id="271" r:id="rId105"/>
    <p:sldId id="272" r:id="rId106"/>
    <p:sldId id="273" r:id="rId107"/>
    <p:sldId id="274" r:id="rId108"/>
    <p:sldId id="275" r:id="rId109"/>
    <p:sldId id="276" r:id="rId1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notesMaster" Target="notesMasters/notesMaster1.xml"/><Relationship Id="rId90" Type="http://schemas.openxmlformats.org/officeDocument/2006/relationships/slide" Target="slides/slide1.xml"/><Relationship Id="rId91" Type="http://schemas.openxmlformats.org/officeDocument/2006/relationships/slide" Target="slides/slide2.xml"/><Relationship Id="rId92" Type="http://schemas.openxmlformats.org/officeDocument/2006/relationships/slide" Target="slides/slide3.xml"/><Relationship Id="rId93" Type="http://schemas.openxmlformats.org/officeDocument/2006/relationships/slide" Target="slides/slide4.xml"/><Relationship Id="rId94" Type="http://schemas.openxmlformats.org/officeDocument/2006/relationships/slide" Target="slides/slide5.xml"/><Relationship Id="rId95" Type="http://schemas.openxmlformats.org/officeDocument/2006/relationships/slide" Target="slides/slide6.xml"/><Relationship Id="rId96" Type="http://schemas.openxmlformats.org/officeDocument/2006/relationships/slide" Target="slides/slide7.xml"/><Relationship Id="rId97" Type="http://schemas.openxmlformats.org/officeDocument/2006/relationships/slide" Target="slides/slide8.xml"/><Relationship Id="rId98" Type="http://schemas.openxmlformats.org/officeDocument/2006/relationships/slide" Target="slides/slide9.xml"/><Relationship Id="rId99" Type="http://schemas.openxmlformats.org/officeDocument/2006/relationships/slide" Target="slides/slide10.xml"/><Relationship Id="rId100" Type="http://schemas.openxmlformats.org/officeDocument/2006/relationships/slide" Target="slides/slide11.xml"/><Relationship Id="rId101" Type="http://schemas.openxmlformats.org/officeDocument/2006/relationships/slide" Target="slides/slide12.xml"/><Relationship Id="rId102" Type="http://schemas.openxmlformats.org/officeDocument/2006/relationships/slide" Target="slides/slide13.xml"/><Relationship Id="rId103" Type="http://schemas.openxmlformats.org/officeDocument/2006/relationships/slide" Target="slides/slide14.xml"/><Relationship Id="rId104" Type="http://schemas.openxmlformats.org/officeDocument/2006/relationships/slide" Target="slides/slide15.xml"/><Relationship Id="rId105" Type="http://schemas.openxmlformats.org/officeDocument/2006/relationships/slide" Target="slides/slide16.xml"/><Relationship Id="rId106" Type="http://schemas.openxmlformats.org/officeDocument/2006/relationships/slide" Target="slides/slide17.xml"/><Relationship Id="rId107" Type="http://schemas.openxmlformats.org/officeDocument/2006/relationships/slide" Target="slides/slide18.xml"/><Relationship Id="rId108" Type="http://schemas.openxmlformats.org/officeDocument/2006/relationships/slide" Target="slides/slide19.xml"/><Relationship Id="rId109" Type="http://schemas.openxmlformats.org/officeDocument/2006/relationships/slide" Target="slides/slide20.xml"/><Relationship Id="rId110" Type="http://schemas.openxmlformats.org/officeDocument/2006/relationships/slide" Target="slides/slide21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dt" idx="25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6" name="PlaceHolder 5"/>
          <p:cNvSpPr>
            <a:spLocks noGrp="1"/>
          </p:cNvSpPr>
          <p:nvPr>
            <p:ph type="ftr" idx="26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6"/>
          <p:cNvSpPr>
            <a:spLocks noGrp="1"/>
          </p:cNvSpPr>
          <p:nvPr>
            <p:ph type="sldNum" idx="26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AD0E1-E9F9-435B-8C1D-AF8E4E148A45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87AD9-FD0F-4F56-9827-3BB427A124F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AE288-9235-45F5-92E8-38D34BFC36A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35AE8-CF8B-4DB0-9873-8C91274709B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55288-655A-4C62-A8BD-333757CA179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C1C90FD-E9B7-47B5-AAC9-DE2120447B9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4544B-C752-4598-9982-19466D753F2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EC580-8A96-4C24-B3A6-9367B6F7B2E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87943-5F0B-4BC3-9ABB-2FD690525C2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63D9C-D099-43AE-9BA6-ED1458F6836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C2CE7-F8CD-4634-B9D6-A440034894A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B2863-8B1E-4317-B7F0-48DAC085B92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FA7882D-E98C-4E28-AB23-2D6EAA6B3C0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56974-33DF-43E6-B5CA-702C1AF9070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DDF65-91A3-4985-8F3F-5C5D11D2935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3898D-94F7-4124-8D22-DDE6D127230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F42CC-CBEE-4349-A8C3-C5D463A45F8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A7DCD-8DDB-4846-B2EC-DEECE505BBC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64D49-80BB-4F07-9BB9-802BAA0B676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FD8C5-965D-43CD-A757-2605DF36A49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29CCD-4FC8-4F1C-A7BD-2BA7E53A1B3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050-224F-40CA-9B47-FE434588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6F95-C89B-4349-9C9D-9799A024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CE08C-EF57-403B-AA0E-859FD050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0A681F4-7C5D-4D7D-997B-952A2026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42D4884-01C2-4948-9E13-690EBCE5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0ADCE1F-D60D-4655-A5FF-3880F61D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AD3EAB5-F831-4661-ABFC-EB19CA60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99F8C67-C715-4DDC-AA91-02D18495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8FE262D-9955-41B2-B7FB-9A2CF30E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73A75C2-FD4C-4CE4-B58F-9BAF29F4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CF02DC1-0A00-4B25-8C1C-571E7220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D672C89-AF59-4E41-9D8A-1552088E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1CF028E-9E59-4FF3-8937-4D30AB25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891B1-5009-4FBC-B846-B6A4186B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9A743C4-105B-4E83-AE2C-ADCA7C2E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24765F7-AD6C-4074-89E7-085B9AE2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A39EA14-CD91-4D38-A849-4E42B79F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2471BB9-B7D8-44F8-A112-FEBEB4C6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95815B8A-70B6-484A-8E1C-16E64321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E8F4EA8-CDA2-450F-8237-EBA51ECD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F542CE8-9DEF-4A19-BF8B-2183D43B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D6BAD7F-B511-4B10-84A5-7D2D2DD6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7514906-C63E-4D20-A890-7A1AB4F9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59DD51D-0000-4181-9BA1-177AC17B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2B096-715F-4DD8-A207-B3894E72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77C8999-6E0E-4B2D-BE0E-7C1CD058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A04D27F-D31E-4E99-A22A-17866799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CBB4690D-9846-4730-B7A8-C4A46DAC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F171AE9-BE89-4160-9D42-C17B7A75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DDDA765-851C-4158-B5F7-7A85F514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0EA52B6-76A4-4FA2-9B72-FDD29366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D564703-7915-4B63-8A89-DD1DDBAA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32A8A11-7612-4310-B2C1-355D06AE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146F50D-7D2A-4F53-8524-6C6EB48F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7E58B52-EDD4-4686-97EA-C629B13C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F992C-2A4D-4D18-9F20-E6C32BBC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C3EE3C8-2A8F-4810-A91A-76228288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64FD10E-203F-4C90-826C-CE141E37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A60088F-50B0-4BE8-B56C-CE7FB024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25EC0BC-1A26-4284-B2CF-68183E0B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BC71780-F212-4EB5-AB54-407ED985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BE89E62-CD4B-4217-951C-862E1F07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470AC6E-0571-434D-9E32-D542DF3D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6ED89B2-470E-493C-8CC0-0FFB96B2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F4426CF-686F-4A79-A517-39AACF1C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5CAE617-15F7-47B1-8CA5-7EFB8EB6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DE2ED-525D-4732-A65F-2CBC3B79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5162954-C7D3-4A5B-9EB9-94BEB247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6BBAA7D-1016-4E59-B074-A454F80E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586A4D4B-8FA5-43D3-BB28-63C67A13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1EF30AA-6EB4-4B0D-954A-995089DD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D8CADFA-8097-49CB-84DE-8250B6FE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1ED29-41BF-44B9-A01E-C4A96DC7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A4EF1-B965-43BE-8B28-49F5E4C1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06B82-D440-42BA-998C-AE4D0A76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D0C68-EEEF-49AB-9CE5-D68FCBB8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B26A1-24A4-4126-BC40-16195B2C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5E2-5EF1-49B6-806D-33E76B31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5BDA0-3FB3-4011-B969-E74CCBF3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50624-3CAA-42AD-99C5-04698A6B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2653F-8D88-4EF4-BA29-05BA0D81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A8FCC-14B0-42CC-A02E-1C692BBE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7C6EE-E531-4CA8-A600-98C48478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37F35-B3ED-415A-87D0-533395C9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E03A3-BD9A-463F-BEB9-42BD1B2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5DB13-C7B4-4BBA-A524-3AAE8017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FF590-FB38-4BB7-888E-E917018C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84C36-DE60-4458-8428-59E2B247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67C-F75D-4799-BF55-729A1CEA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EEAB2-F642-4FCC-B24D-239F3246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CF097-68C1-4203-8280-78B2B859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C95D2-05C5-43DE-B1F1-B1AD3FB9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8634B-4FDC-4F24-9824-2A113B34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4731B-F0CC-4E57-9969-9ECBDEE6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89C9B-4CBD-4E11-A37E-13E95731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3AB5D-8A76-41DB-8920-2A265F9A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7C005-8FA5-41C4-8E47-0CBBFFB8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29481-CAC0-479D-B4D9-9BB69D53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AB350-70E0-481D-A139-F665A03F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773F-7B2E-4191-B999-0452EEA9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85350-77DB-443C-B9E6-79D610BA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64051-1B38-42D8-BECA-DE006EE2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1C86F-CAFD-47D7-8F49-37E8DBC6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5698B-67E9-4885-9387-1B59247B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A12D5-E8A5-4466-9A95-64A8CC3B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E24FC-B26C-4619-801C-3EDF69FA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5A8A2-4FC9-4230-81AD-6191F636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E23C3-7D19-4CB4-9652-EDF39953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E5B47-1709-4BC2-865B-F5FE6B52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3A0EA-510E-4FAA-83CF-F46A5E8A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B63A-B482-45A0-8096-2B67BE9D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2FD04-D891-4DEF-A021-FB35EC93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275AB-B4A3-4DD7-9201-5131A8B8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724EA-4EB0-4900-92D2-9E6B3CE0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1DC50-4AA7-4A0F-9D93-9C2B4934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8881C-C750-4650-A576-87757671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8DC2B-BE67-4433-B0F3-434ED916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B7F01-687C-4FA8-97E9-14F1D279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5E629-FE7D-4AA2-90C2-85DD1402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1E07C-9EEC-4AC7-8242-68E2A209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2A6EA-96BE-4D6B-BEB4-A5F3A63D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D474-A925-4005-A809-EC0A7E90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AF403-1DF4-4FCB-9B82-86DB06F6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A5C2D-813A-4EF6-BF5E-EB158E61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5ECFD-1B6E-4AA4-A671-6361D493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355EC-2AD4-4808-A4DA-B8E63C00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F7C9D-2F65-40B0-96CB-2ADF76E1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F114F-DDE2-4DB1-8923-4974453B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432E4-81EA-4C62-8043-7B34CAA5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76003-3A09-410E-9993-F48EAEA3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5F98E-9AF6-40EC-94EC-3C8524B2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B1E3B-CAB2-4E79-8257-46215645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DC8D-9B7E-469E-BDA1-D7A0A349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2DF9E-6852-41D8-95DC-7AADA789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68670-2AE1-4A24-9E7E-DFD0B577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E160E-D08B-45CB-AB33-543D8D1E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835B7-F800-4649-9018-7041DB34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ACCA7-8055-417B-8374-CA00C821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DCCAE-23DC-41DE-8671-A385F291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EF214-5C66-4ED4-B904-1EBB9682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F94C01-E89C-43FA-9DE5-3BD67B51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DF6704-2EC1-4172-873C-D006A97B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A846A-4ADC-49E9-B193-742DBD92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A009-699E-487D-ACBB-C5D1FBA8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58C5E-6BD1-4A17-A5CD-08D2263D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38BC7-1F61-4BF6-B8B3-2280957C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727FED-8D35-48C9-9B21-F55B3B82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019731-A4A8-431D-A6B8-1F21642E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D0C518-A944-4B35-9EDB-4572A6EF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4FD3EF-EA4B-492F-A6B6-4910D0A1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216FC-35F6-4A7D-A481-493D41EB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C7724-966C-4631-A116-50331DF7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9B83A-906A-4AEB-A7DF-348EC297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8F0AE-7B88-45A8-AB48-A97126CC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1BC5-9E45-4A94-86B6-422D6741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9270AF-A452-4667-978A-D77D3373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83C2E-E7E2-417D-BDF5-E30BA836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EB384B-1E2C-49F9-A98D-BC5F5200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72B65A-E9FA-4F7B-8DFE-CDF8B081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2BBC46-A5CA-4A09-89AD-3A37D749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412EC9-9920-458D-84D5-CCA76FDD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0514D0-9D1E-45E5-A435-19AC5220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5E0870-B422-4067-8A9A-1F764C0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0A0B9B-DBE0-429C-B15F-1CDF0B31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4E6511-1D4F-415C-B189-3BBD8750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CC89-EC70-478C-9F77-128D2C42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9F1619-2810-42E9-91E9-CF75E831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CF99B6-D60C-4701-A511-231BF41A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11DDC-9CA6-4053-9225-372DC28A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1A785-B1E4-47B1-B6D1-19D0209C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AF27D1-212B-4BD4-8994-28FB1669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E027C4-9A81-4A1E-B768-A5DB2344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C238E0-6474-43C1-844C-8CC51299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1D82D8-4755-4260-900F-B82D00D0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D091A0-E3F7-47AF-825E-5688C02E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420EF-BF77-48A2-B3AB-59A0F468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157-CC5D-405C-AD3E-18EA6C80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4934-4EAA-403F-B3CB-120FF8A8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69B1D-2CC1-4799-8308-4B6849FB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E895C2-9643-4091-ACF3-8CE18D3C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26C2C0-2966-45DE-B0B6-D28E70F5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E2E1A-3ECB-4D92-82F8-FC1FEADC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B67381-F025-4E9F-BBCB-A6655861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164748-2E38-40B6-A789-7CBE405E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EC046-A520-40BC-A11A-39F2244D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856C86-E1D8-4643-A672-C846C7F1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F567DB-61DB-4BE8-B99F-E8A2F774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05EFE2-486C-49A8-B99E-FCBD5073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FD5B-C30E-43C9-947C-1CCD4390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C8C2B3-DEAE-4336-AC7B-6A5497CA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F67093-0C5D-4825-8E0C-E5F235BD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2C14C-DB52-46D5-83CB-F1278B38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44A337-64F9-4140-8F04-AECE3B03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ABCF30-3E55-42FB-BC45-1C710476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AD2BD8-AC5B-4FF1-B4BC-2C6A5CE6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C62BA7-E222-44A7-8B0E-EB67EB00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04ABB59-EFE1-4E0F-84B6-3F428D87155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0B402D6-A55F-487B-8150-50A28E8AE57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B38C52B-C637-4FC9-B3D7-99D078E6E2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9329-126A-4F81-AD8E-D14EE3A0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68B9509-F291-47E9-8BC1-1B34E56BF29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3D0EF93-8CDE-4287-B03A-4A33713E489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2967900-201F-4416-8773-8E0D3398962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023EA65-DA80-408F-B086-7D4F5C1918A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1828067-3029-425E-B1AD-E4C80B46804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4697A14-5248-45E3-93B7-A7E33FFC2E3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87D44F1-85CD-43AA-87ED-E68867C22B4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3FF589E-C901-47AA-8ECF-9B0B9EE2AF9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1B48C76-BF27-4BD6-A9EE-6E82DE2CF53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71281D3-8162-436E-8972-2AD3D715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008C-CF2C-4048-99CE-84F7028A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F2E2B6D-4BBB-40DD-80FC-CC855750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C106765-D34D-4574-90F3-CA5D0C83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CC2253-1BAA-4C61-814A-50A75D30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E65A8FC-5DBE-45FD-9239-917C6CBA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55ABAE1-CD9D-4A55-AEA5-3D69042B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D3E5FD5-B7BB-4E9E-8561-F993CE4F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254634C-085D-4606-87E9-7F72FA84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0A8A46-F88D-409C-A030-50A6C740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BB7A9A5-18BF-40E7-A32E-EF5C036D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ED5333E-E047-4FD0-834C-9EAECE8A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50A9-752D-4D20-B8FE-9B0962CA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4BF0BC4-75A1-40EB-B372-8D6AEF0B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8E8EB93-3C82-43BF-800B-338FC3BF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A25CD54-1EC2-41E2-8F3E-CEE8E459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AB9D833-5452-41EE-9566-E3E23E64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D738B9E-CBDA-430D-BA63-A2BF01DC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89C5F76-7329-4036-844E-CEC89C77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5DC7D36-A156-4A7A-96A8-10D4320F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0F4C8D3-32A5-4392-BE7A-6BF7F691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A3CF2D3-08C7-4633-A265-6C1B05E4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B8857F6-5B2B-4BC3-BDD5-723442D0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57914-F100-486F-B019-A08081E4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07C245F-D02C-4174-83F6-0684A381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64B4615-F071-4D55-BC93-6868B914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D4658CE-BE70-4F2F-872E-2D436E46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DF09FC6-63DB-47CC-8C1B-935C15DD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AE9ED59-3E0D-4409-8229-B643D9E6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7223DFC-6F90-4B81-83E9-C748C056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25B53C7-2E58-4941-B160-262C5971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7FB244C-EE4F-4A02-B718-31645480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5C36153-57A8-45F5-A947-A8001E67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6ADD4FC-A440-4BB0-913F-DDADBE83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270AC-5790-41D0-836F-8C3211E0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8878192-D5D2-495A-ACD7-3E609F1F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3C813B5-E878-49F7-8D28-BDE9EF41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3337FB6-EEFC-422D-9C71-5E86B11D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D786268-BCCA-431D-9FA3-5AF3D008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8EB03B4-18C3-4909-A6C9-09285749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612BFA0-BFF8-4424-92AD-E307F92A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88355A9-6B92-4BB3-819B-C976F799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B5FC740-8A29-4338-BAD3-FFFED25D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27A9D5E-F1A6-4CC2-909C-05E376C6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99DEB43-4693-4351-8570-9586CBD6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F499B-9339-475D-8872-9435D76D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DAAFC56-0553-4F4D-B023-36DAE38F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AB4FC4E-6221-451F-A19A-637B4230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A300D2E-AB30-40E4-AD00-5D3D0954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D89E43E-AFA5-4AB0-B78B-87A26A3D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509B134-D0C9-44A9-9189-550F30F0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937004F-C999-41BF-B063-326768D4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DCB4C00-0817-4A2E-942D-A6CAE7DC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5AFCE44-2256-4199-9CCC-CAEF2A86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14ADAC8-81D9-4570-AA5D-17F287B5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B4E141C-B36F-4E2F-BE18-7E0B0120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FDE32-0C79-487A-A5F9-ED6E788F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AC20E18-AF8F-4D2A-9627-F9A87AA1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4C55CE2-B00C-4795-A107-F483C761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6E14555-991B-41C2-A731-D059E674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E8B31A7-4AD9-4E83-B764-511AA9B6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E7D8526-C0C4-499E-B889-DDE36F1F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280EE66-23B6-448A-9767-ACADD5D9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A503A1C-3EA3-467C-A627-375C579B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FBAB8BF-EBBF-4F28-BC5C-6969A7AA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8450A68-3618-42C0-BB69-BAC432C6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6DEDFF4-2807-4B02-9C52-FE8F9FEB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73B3-02FB-48ED-8A35-0EABAC26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F390600-F6E2-4905-AE1D-592204E6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44F0345-8E51-4ABC-B6B0-23738335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0A1181B-03E6-4696-B9F1-1F5D1A77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C5E1640-6C56-43AD-BD5C-65F00AFF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032B628-7A2A-4F56-8FC0-2802A738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05873FD-E0CF-4E96-BBAC-EAED8CA8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AC43538-53F3-4C50-902C-94F16D28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CFBE266-142F-40E8-B253-F0DA6228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E187B97-6189-4233-AA43-82728894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67CB290-43CC-4D31-A7BC-44076BBA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4FF-D158-4766-8BFB-786DB977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3889D-7503-48D5-9A9E-35DA5B55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A7D0FF7-1294-4C3E-82EE-A105AAFC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98188F1-63E5-4034-9F3A-F28E991A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1A3B6D6-B488-4D37-8188-58D5C95B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975CB06-D704-47F1-ACB7-7554A233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E134F56-3A03-496C-B731-1159E263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8671C1B-BFCD-4C4A-8C30-428CA0A5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2EE126D-AC54-4C62-B5EF-326A2089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9DA3D90-135F-43EC-9EEF-4BED0E00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E40D0CD-0CDC-43B5-8611-92CB4C35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4808394-84A2-40FA-ADD5-60E1DCC4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394A-30CF-4326-9CEC-1D070422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C3F78E5-597D-4291-A26C-FB82FDC8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06E3C9E-4FBE-4895-A474-A33251BA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BD35265-AFE1-4BF0-B0ED-3C149967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5C910AC-AD5E-4E08-9A8D-6D317401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230F9BE-4DD6-4F8A-97D5-9AB86F71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767D4C8-6B0C-447C-A8CF-337A2E48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22D08DA-92FE-4F0A-84F8-8F559E16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D985464-3C0A-4610-99DC-A1581A51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7BBFCC3-373E-4452-963A-C10F7527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0F5F7FF-B84D-4E9B-84AF-04723EF5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8D1E1-776A-4CAF-B6AE-E2713CC1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96592EF-74F6-4493-AC84-9B3DE0AA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05CD0ED-1CAD-4EF5-8A7A-13B77046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DDBBD59-0108-4DCA-8F87-DDF0F2AA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3FD83B8-F5CE-4923-8718-B7253875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C476B86-19C0-4567-AAF9-4735CA0C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BF972D0-4D86-48F3-B24D-4BB57013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4CC6825-A288-41AE-B78F-6B161A56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5B60B9B-0E6B-42E7-ABAA-03EC0897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6E8B264-29E4-4138-A31A-B7F18B64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A90F38E-4B5C-480A-A8FB-BDD523F0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7B496-F3EA-4BDD-89CE-D3648E25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F29734E-367D-4BE8-9AD0-0B52A49A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AB2D90E-98ED-4ADD-81C6-F79E4552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F0623E2-FA7E-4534-A06A-AD7B767D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718BA4E-F51E-4986-824A-E49DDD8C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9CE01DB-D935-415C-8ED7-A7DCC8CF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9DB81B2-E5C1-443E-9181-F92480EB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852498F-5638-44F9-9FC4-7C31EA8B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F2D2A99-838F-4654-B46A-C87DF882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3AEFE78-5FDF-4065-A96A-27D54379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C28ECD7-FD81-48C9-96C6-65DAED40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7D48A-4646-47C4-8A7E-3A35598B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A62F62B-1770-467B-B701-599A2754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B20C931-2583-4BD4-AAA3-BD4ABCC0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4AC6C19-502D-46D4-86F3-BCFC403B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C48D709-4319-419E-A399-DD820AE0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CCC35F4-9027-4C9F-B15C-4066822D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5CB675F-655F-4F27-9990-C12AD64A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AA3156F-DC42-4F4E-8EE4-5E4BE859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AC7384D-3865-46E0-9D80-EB6AC448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32B4970-3835-4BDA-B1BA-53D19CC3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16E9177-AD42-479E-BE12-524E9B68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6B39E-C066-4624-BAAB-1BE9D092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A9473BD-B7BE-4C2F-AF4B-67B02C99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E326488-91B0-40B1-AFF7-35E597B9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665D27B-DDCF-467B-AB1C-977AF048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9259F8A-06B7-4AF4-AD6A-E11D5466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5B3CE91-C8A8-4C1E-B73D-811B0A11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0061A68-869F-418D-9E32-477F1423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8E26BB6-B9FC-4841-BD62-8559E435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2ACA47E-5CF0-4B0E-A926-8EFE5CBE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4DA7BF2-7061-4844-8B62-5DB3E42C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732BF98-494B-4BB6-9C70-FCFC7FE2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7BC6-F669-4F23-B622-7AB62EF2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7569A13-9015-41F8-B73D-9B94ABBB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1C098FF-70B7-4D5F-95B7-2EE8144A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57B8BB5-F850-4039-AAC0-4E4F6FB3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6B0517C-6F1B-4D62-9D71-03DC2EE8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891B953-8FFA-40EB-B884-FBB6E411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C94CF89-DF5B-459D-99E6-5AD5A962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254CE8E-DBFD-456D-A861-B4A9ADE2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56AC8AB-4B0E-434F-9552-77B434D2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3FB2DE0-1BFE-4A9D-B85C-83A8457A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98B7CA2-5985-4649-8B86-7F332478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1BF64-FD19-4D12-B703-0573050A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FF89ED5-DEFB-4E8D-A3F4-094F5A52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202A471-BB3C-42FA-9E68-57D9CE9C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4AAEA36-6EFE-4769-9CF5-5E893742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43EF9BE-576C-4918-B239-CA673DAA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CF0CDE1-D3CA-40A6-8C56-0C71EF0B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8675B1F-4ACC-42B3-8FE9-107A4B4E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AEF5951-652B-4EE5-A264-030906C2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CDD2C89-B5FC-4013-844A-4B07F09A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5F09B82-8DA1-41F8-B238-E9A8D9F9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001FBD0-28CA-4266-8DFB-B3295CCC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A0B66-9D41-48DC-A779-C60F092B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90B74A6-0BB7-4F3B-AEF0-AA23CA09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6E60970-2CE6-4F50-980A-3BC72500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4F93E86-69A9-4E50-B3EB-0CB86B92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4EE5E43-5F65-43F0-9BF5-8E47F5AB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236C7BC-9035-4516-9CC9-F2C2F390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690AB93-F7D2-47F8-B8EE-69B9E7F3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EF56D69-8E4F-4BE5-9523-8043140A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6165D6A-DBB9-47F5-BBB2-1EBB733B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CB7DFCC-CBE8-40EB-B075-54F71B48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FC2B4E8-BD27-4E80-B0D2-56722065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C9C05-83E0-4898-B8C1-FE9D6496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F31FBEB-3E49-41EF-B7EB-B74C4033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07F94A0-FB9D-4FC3-8219-A73A1962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6843E31-E6B1-4681-A82B-A165E843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475AF14-A181-4BBC-9442-087CDC8B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2F01079-EED7-468B-BD6D-B17F4D92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05890BA-E51E-4B4C-9AA6-CACF11DC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79C08E3-678B-4057-90D7-82B29265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A0DFDE6-8325-4126-96C4-147E0480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75DD206-CB6B-4B50-90AD-B5A76102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611D184-5888-4625-B7B7-0F764D7A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716-ECBC-4D58-8219-0FB0DABE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F09DE-6B58-4C81-8BEF-34A390B5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CEDAE37-88B7-4D84-AA43-107A572D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2C1B44D-5899-46C9-B193-1E5BE5CB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6D789BF-D89C-45BB-B341-6BD43BFE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5345710-EBC7-4A59-9DF4-505846E4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BEC06D1-1DE2-411D-BB27-47CFBBED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5B677BB-0CD4-4D55-8ACC-11B74382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A1E1F60-1609-40FB-BFDA-7F1B00E4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16C081D-C079-47B4-9B3F-74DC4B5D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804A7AE-FC64-447A-A7FB-B66BF6EC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E33F4AB-A3B4-463A-9A3D-3E20262E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A0AA6-C19F-4911-8DC8-1B79B3CB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9A15768-B2A6-4DBD-9A82-59470B7A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A252180-A9BB-460E-BC2C-AB42833C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2252329-E120-472F-808B-FF57F8A9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7BE2FD5-C75C-4E2A-95A2-7F3C951D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52D397A-74A6-4624-B83E-F3D1423F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2C7BD3C-9A86-4E3F-B61D-FE9B70A0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E3CCAE5-0921-405C-8886-E2EF023D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959B4E1-1013-4897-8E54-2DF2A023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A16C8BF-3BD9-4246-B86A-29B21C0B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85EB82C-1811-4498-AC8E-8C0D2A21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96CC4-3A28-47CA-A351-190911BB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A18BC56-6032-4040-A3B2-1B2A5AC1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A5E7D92-3C82-4020-B594-DB9F10F8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C1EC095-CE42-4617-8103-48467384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6A08E8E-D75C-4223-AF10-596506A2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A01C11B-C769-4741-B424-898D2511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E88B8A5-7112-4E45-BC2E-9EB75194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8EA3919-80F3-4327-9EDB-8B47B1E8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74383A1-D0EC-4805-8FE3-EB4F0F88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0B9599B-F1DE-40F3-AF2F-BC96A6B1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37FFD95-DED8-4260-9772-AFEFB4A4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598D3-0D04-424B-82F8-089B100F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0BC6530-2E24-4EBF-8BD5-5CD0DBCE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B750D55-826B-4D12-A833-981DAC83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26C8E44-A912-4791-BF55-D935514B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76895A9-3B4F-446E-81E3-64052F50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B78FD06-246A-45CB-BA6E-9D9BB2DF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66CDE85-2EDD-42FE-B435-7E84E550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F9AEC9E-31CF-4E18-A711-24ADDB2A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4EC8DD0-F65C-4E41-B804-67D2A0B3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871B180-7DA9-4F80-B39E-E433F842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8FB2E02-2AE2-4443-B84E-6531CCEA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1E672-4BC5-4797-A740-BA0B794A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41EAA40-A4B6-41E4-AB8B-BE9178E2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16B72FB-9E2A-46C6-881C-B6517245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2A40360-C42F-4AC0-B653-517AC2C3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FB63D1F-B561-4649-9F42-06CF94E0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B881C79-1F83-4DEB-ABD1-26ABC9E2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341F547-47F7-40D6-97B2-53F2B241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DEBFF00-FC54-4B81-952B-976B52F6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8989AA1-2FB3-48D4-B90D-0A149ED0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A083296-2258-4837-A112-3210B4CC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4626474-2D1A-4CE1-8586-5EBAFD99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D70BD-C6C9-4E17-A552-185E9FB1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A92BE14-6184-4415-94DA-6FD77AFD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4DDD178-B55D-4E0F-ABB7-0765F042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E884C71-9F5B-4502-8AC9-1CFDC48F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CAA5C47-F845-4C76-8349-C81A930E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219B175-8133-4FA0-A95D-C1A2FC02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35E34E8-7E58-4CFE-86F9-37981B8C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75C129B-B979-42EA-BF9A-E201E96A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5D3D073-935B-4637-925A-39409A06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F697C76-38F9-46D5-8DCB-79D72631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08A29E5-FAA7-438E-8B3A-BAB55686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34513-9637-4A4A-8042-4E7D026A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8518D0D-72A5-49A2-AE92-CBA42FB8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EB25915-F949-4ABE-9F84-91FF6D40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6571019-79AB-4983-80CF-66F349AB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60F343C-BCA2-4A80-8A00-6FF04188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D27EAF2-9C7F-47B2-9017-76FD039B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1C789D6-A8D8-450F-8E5C-0DB1FFCA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65C9990-5131-4EE6-A6F1-7B10B104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D6978AC-33B3-4F5B-B4DA-FF5005F8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8C35270-93C3-4E67-9191-9BC7FF62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29327A4-71BC-4220-8A30-1675EA02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28D31-2F70-4AF5-8079-BC4851AA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B5D3BBD-0536-4939-A4B1-4AA44CBA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E0766FF-09F9-4F0D-9A04-5E04D7FA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0332EB9-1C55-48A3-9A70-382312AE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3D20DC5-68E8-473A-AEAC-1B1B16F0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52D30A1-1421-42D4-8EB9-3AC21246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99774CC-29C6-4220-AF82-D0E41D5F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6E1D283-EBF1-4A99-8C4B-3CDCB817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00648A1-5A6F-49F4-ADAD-5EAA69E5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5C1E8AE-5648-4C52-A354-C9E4D605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16BD7E4-6183-44BC-AEFB-E2EA0AF0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F3DA7-3CDC-484F-B2F8-43F06B6D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1153DE2-1F7B-4427-A446-D3913E74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FCBD3F5-3BD3-42BC-8494-912A9B5C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00C15B8-FEC8-4067-A0EA-3D3A6307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337CC90-578F-4909-B2F0-E0FE5E79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7BB5E78-A2EB-44BB-BA60-3737F9DB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AF5A6FE-B0D0-4914-9EEE-7F05E732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8A72C6D-6DC0-4C90-BED5-315D270F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E415113-EA39-46B4-B46D-BEDBDF25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99CDDBC-265D-4428-B647-51C0521E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39E99AF-437E-463F-A361-A4830BB0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45023-969E-4C95-A9D2-FA37F7F3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31F0942-3292-4CD5-A2F0-9C7382D1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182D99A-2E34-48DD-8169-FF535E37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3740D6A-CCDC-4FFC-BC10-BA5A5F66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E015B20-404C-41E5-AC94-C97EEF2634DA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5742BB6-9B6A-462B-A071-2E06735D8D10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4C9362E-14E8-4E9A-AA01-41BF659E866F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97C40CD-C30E-415F-B8BB-8C5E8D7A890B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77A42D4-E56B-4AD6-9E10-0923B407AB50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C9F98C-10F1-4C87-B246-6666E1BA6D16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B187199-4F1A-4CE0-8D4C-35EA70933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EAA-7750-4A9D-817A-AF1A5EA9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DFEF0-1381-4F41-ACBF-3D700B3A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24E53F9-790B-4691-8B9A-3E36230C76FD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C99A01-8A7B-48A5-A7F7-DE5F8B3E706B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C8FCCB1-57B7-4B20-BCF1-AD46AE393F97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7CD57E5-28D3-4371-AD5F-722090E21F33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E7FB021-908A-4E6D-9A11-E36D41936AC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9263523-C9C0-4544-ADF0-8447A2D0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3444E60-9BB9-4272-9EF9-6085C40C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399A772-8409-450F-A8AD-E2B31F25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D877C64-D332-48D7-B60A-10EC2F0C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5D0CC2E-3A22-48DE-8DF3-E52CBA28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3D0DA-5219-4092-856C-E769F584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4EA157D-3F68-4322-9260-3A3139D8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D9328CC-78E1-433C-86A1-D15B7A5E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14F260D-8D7E-4F8B-993E-5C2EC3BB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8FFD2B7-8536-4631-977A-F9FEE20B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7220225-5CB4-4037-90E3-E27E50DE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BF129E6-2D3A-41CE-949F-30DA8928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6398BDF-6D49-4988-AC3F-F469E788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EE3BA0C-A12B-4D34-B678-ECF03245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B900354-586E-4A68-9002-C1C1E420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97BEDB3-05FF-4527-9CC0-8D36EE4A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4EFD0-3BE7-4739-A5CA-58D8F939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4B97B6E-2251-47BA-834C-DD3C7544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BC6F163-1D9D-4E7C-B99E-738E4259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06A8D59-E104-41FB-8587-A881CF96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052C4F8-41EE-4E1E-8E62-3184B4CE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2AD7990-BAD2-4DEF-BFFD-5C3D74B0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6B3311A-1004-496D-81C6-D6C23B21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220015E-BE90-4D4D-BDFD-8420FA17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8A35BE0-A784-4D1B-B467-0035D2AF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BEA40B3-FC81-4B41-85E7-03D1C9B3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059F565-B13F-41AC-8DA4-7DB32BE7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BF329-C19F-4FB3-A4C2-94A5ADE7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A30B6D8-1B15-448E-82AF-E385FC00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4C79EEE-D87B-4C45-AAE6-296549E9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8B5B49A-E328-4C0D-9C9C-D17F81E2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2E28B69-6A27-413A-A4F4-5411D8BD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C901FFD-6658-4CED-AF35-732ACAF2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471121B-CB57-4788-9EFC-A3654E57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5716E98-5A0D-47CC-BA05-5838F01E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D385760-CC4B-4DE5-AE33-8E2392C3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0D5F6F5-50E3-41FB-9A20-2BD9E837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AEFAF25-3475-436A-9F79-96200648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4F4F6-62AD-43A9-8E63-278D8F30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8294979-E388-489B-A2DD-03921F64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E0F3BE5-09D3-4169-B5F4-DAFA8F7E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A87A3C2-8DD9-4DA2-B933-60E79793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86C455A-50EE-48B8-B6A2-7542204C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BB0D8E5-7AB6-441C-B48F-84DE0863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C4D26CC-8EC0-4537-9B60-9249DE71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17E7254-07B3-42DE-AD50-FEC702F8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1BAFF7A-F83E-459C-922B-0182B782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9D24926-31F8-4AEF-B326-57C61D70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F0A22F4-6B8F-40FC-A5C3-EF8D71FA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D09AD-4480-4FFD-B4D3-02307B11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8E189E4-4773-49EB-B185-3F71DADE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1DD03FD-D958-4DFD-8631-A78F5C6E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B0F9206-F77D-4ABA-B4EB-2DAA79D4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F32957E-16F9-4EAE-9B1F-95C64909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8CE5A50-F462-4568-A161-9536E26C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F044E20-3DC4-4C90-B8DA-0C6B771D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BABE5CF-0D07-47E9-B756-3FDAFBEA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36E7BA9-2D93-491F-B600-47027F0C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FCDD280-56A7-4CF3-A049-2A235A95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D91C7D2-60CF-4076-9257-2506AAA2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8CDEB-616C-432C-B9EA-9E4D6A73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726E7F1-0F84-4786-9DDE-9A6DDB90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9197842-7800-4D25-AFAA-480A3C09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F29627C-43B3-4C7B-9CF2-622C8A0D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AC763C0-041C-445E-8EB1-3359DCED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A6D7652-2B37-448C-AF29-79A41F4A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F5D35FC-CD6E-4F66-9173-A1D7F18D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59370D9-7D75-40BA-A93E-6D1396C5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C97F584-1033-4AE6-BFB3-4B49C93F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01721EA-4EA8-402C-9F89-CAC0662F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C955591-FADA-446E-9619-18741202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73456-D012-4F66-8C01-A4E57ED4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47DACC6-13F2-48F4-BB7A-390C5C1F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5DDCA8A-CA42-4D7E-8EFD-CDE44542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D79E984-FD8D-4EC1-8B02-0F54635A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80A75B8-5798-4F91-8EB9-D99C1A4C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E9E06F1-DF7F-4A62-B394-DD6B43E0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9AA81D6-1850-4F3C-BE2F-553BC080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5335A98-E5EE-4D08-AB0B-550A85EF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FC39F17-E37E-4E70-AD9D-4C2496D4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BBB40D6-00E9-4C6B-9D7C-5FA96B76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54A230E-2F1B-4D16-AA79-F5A00C21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BA6F5-E045-4E46-9BB4-F10D7373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9C02217F-BAE0-40B7-9F88-F3BE0831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FD0E172-C317-400F-87A0-F1FE9385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9B9354D-71DA-4179-85D5-022FF553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84581F9-3FA9-4C6C-900C-BC268CCB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7005F55-0EFC-4F90-A540-050E73F8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33C19DC-97DB-4047-91B9-5311B8C6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E9005AD-E9AA-4140-AFE6-070FACE9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E10FE25A-7AAA-459B-90B3-EA654C29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7A26557-380D-4C4E-84BF-356A8F80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5CBFE94-8191-4F4F-B115-3C4F5E5A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49CD6-FD5B-40A3-95E8-60E49EE4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823CBCC-9A28-4672-AF23-5643BE4C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8780B1B-0E46-4B90-8116-9633D204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45E058E-51B6-41C1-B135-36F031EC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76CCD9C-3AA9-4DB7-BC63-A14D5FEA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9835E4B-89FA-4AEA-99B8-296D1B15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004D24A-3C47-4B6F-950F-04630FC5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330022C-6FB9-4E79-92DB-59DCDAB7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0121057-7104-4A74-82F7-0BC99066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42D556A-25D0-4168-A222-4B2C9929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A64C266-8858-4A0F-9802-DB6AB85C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DE2-7889-460C-98E7-43049A82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E9F11-E805-4DEE-ACA5-B1C12BA7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BE77C7D-7323-4CDF-9325-D595F98D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0FFB188-3C97-4293-8ED5-3D872E26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C1F9F23-50DA-460B-913B-D816CBD8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E172803-669F-4DFC-A31C-4E0A0014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272E356-6F7D-47A0-9293-4D62AB72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57BB5CE-8FC2-441C-B286-42029E37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11231F9-73CA-46C9-ACD4-2848005F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3B9B1F0-AE8B-4713-A967-422F132D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31A570FF-75B4-4436-864D-195F027A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4D8F00A-617A-4709-9A78-7BA64B12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3FBB7-3C05-445B-BFD6-1094E06A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D3542CE-724A-4336-A2BF-5E6EE042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0BE2518-C329-4CF0-B6FF-D3E8F80A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AD6C82B-CB0A-4077-B8C1-51C05580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D859416-2920-4096-88E5-303F8D36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45621FC-A3CF-41B0-B8A5-732C9951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6D0DD41-C294-45C8-A7ED-56E8009F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571F35A-7169-44A9-969F-B599FCAC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665574E-5168-4E03-98F0-392B2B4E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76E6019-F54A-488F-9D87-229ABF2F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218B93A-BC7C-4132-B219-2D0D3C35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1D2B5-E35D-45FE-93C9-52EC522A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A05694A-DF90-4105-9EA5-0C8E7564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D6EB352-D189-43BE-B62C-8AE842B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5CD6382-B992-441A-BE41-54346237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6E9CFB5-62A7-443A-9CE5-B99E8106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3507664-ABBD-4E9B-9F83-98D66A63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133AD4A-64B4-4E4A-94E8-8F16CF87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6605984-1785-48F2-A231-F271B0A5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EDD702E-CBE2-4D00-A422-4CCFC382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C6D363F-C3D7-4CA3-B5D0-1F123992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2B586FE9-8EC5-467C-AFA9-EFBA1478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C73F0-6A13-4D60-826B-7DDBA5F7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E5D51CC-92CF-4A37-B9E9-8CC6DBA2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45C03CF-86D1-40AA-963E-C3BAC7DA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D798656-BD89-4B0B-AB80-363C88CA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698F0E88-44FC-4BCD-89A3-8CB4CEDE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41DD232-A97F-4CC2-8658-50ACEF34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ED4DD8D-F701-44FC-B633-18801901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4409F101-495E-4185-834D-1A75DB82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E5ED0BD-5F44-42AB-B0C1-3FEE7FD7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1771F67-4610-4BE9-9BCB-E3B32D76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EC2FC76-9B0F-4193-A231-0D771F6F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15A71-6A89-4842-A001-38431FBE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FC1F2DE-3A23-49BD-B98D-C439D828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D4AC31C-35FD-40F0-A3E9-44B37A78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145124B-8A6D-403F-B245-A39767B7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CB887FE-97D3-419F-855A-52E55668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C8470DE-87BF-48E1-8C7B-94548964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46C1711-0E92-41A1-AFD2-35EBC2DA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FC55C3F-BCA2-4301-B08D-6531D8D4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36D6F2A-C6A0-4F2C-8361-E6AF519A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F792295-7610-424A-89F9-0199A76B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277D48A-D79B-48E8-A128-A1D07326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E86A3-F187-4D82-B508-C7874C3A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FFC1B4C-9B23-4903-A930-2FC9BA9A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76BFE74-5365-4DD6-B231-D40706C2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05E383C-0BF6-48BB-B8EA-6EEFEF97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E083A0B-C6D2-43F9-BD59-060D9937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A5CA92C-D57A-46F6-B789-A4DB3A16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D7B2291-E28A-4F17-914C-B8746DF4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5213916-C7A1-4F9A-A710-9476EC1C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CFB2CDE0-BC5D-40E3-BA26-B088D225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5319BFB4-4E1F-4042-8B1E-1E07E78E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5F44AA1-C2A0-4011-A050-1CE0B0D5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727FC-5568-4645-B1E9-42339C30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A06793D-2867-41FB-A550-89FACC7A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A2CBD7E-E9DA-4EA1-AB58-F3FB1812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DD9BFED-0FF0-4F7E-8AC5-A38ED517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2FE981A-7618-43CA-AE74-5A6BDED5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93C6731-E6D6-4E86-9A8D-8664A3C1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200D06A-8285-4790-BBEC-929268EF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9785651-DB27-47AE-9117-5B9F366D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E9BE9D6-3B64-461C-B392-C7591918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E5FBF09-23B3-4F49-A6D1-99593D43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DBAD339-080B-40C1-9D88-9A2E71A3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9AC98-0244-448A-9974-AB6C2FF7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941E837-A995-4BBE-95CF-7C74CCC2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9EAC33E-FF1E-457B-988A-C98D6D53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B160A24-56CF-42FC-ACF2-B6A6DAC8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44A6FC8-A38A-4B71-9A26-807DF6D4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1CA8EC09-754A-40DB-8151-F42E57FD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7FEE0AE-F1C9-4317-82C9-3C34B101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D615C18-6915-4F22-8D33-BB15C59A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3627090-EF9F-4B84-865D-26B18E58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4E0F0BC-2575-43D9-BBDA-F2BCEA07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66D6421-3BD6-45D0-93F3-680C529A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8A613-213E-49D6-A429-C731AB0C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DD2E7DE-8CB5-4CB3-B068-0D4BAE56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B8DADF9-3AC8-4B3C-A427-CC134446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0CD350C-C504-4796-A984-324663FF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67CAC95-74D4-4B12-9C92-29773B11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4BB40FB-7FD3-47F4-8E9A-9A8B409E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85B22886-0D52-4D72-A5D3-CFA36A0F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5D8DC9B-C1BB-4332-87A2-C3FBFBB4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EF13CCD-18FC-4570-A2A3-3D6BB335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8F20D983-9FF5-418E-B0D8-21DB10DF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B02F470-DF94-4DDF-9519-4B2D3B36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C564F-6241-4AFF-A061-0787F435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12EA8B6-671C-4EC6-A2E3-7B16D54C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C2B1B12-684D-4FB7-B4FD-B89F69FA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8CD44ED-C384-43EA-AB5D-06DFF7FB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9F2FC83-3FD9-4DD7-9910-4477AB58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D312A4A-32BB-4B06-B91E-DCBFBD1E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EED3FD2-8ABA-417C-A2A2-EFBDCA6B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6CE319C-CCD4-473A-A70F-5F1233FA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A46A122-7955-46A0-B8C2-E00CCC4C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B648DB2-29D8-4516-8CBB-6968886D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C85978C-2D7C-476F-A28C-9AD7633D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1F8-2CE4-4A1D-9473-1EF2B2F2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361D1-11CD-4B94-B3DE-2BB00E8F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8E640106-108B-4409-8736-CB138D17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CE1751B-06E4-4FAA-8FC6-A8547B4E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5125BB7-1477-40A0-ABCD-8A6D7AD6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D0C303D-8B53-4029-91C6-78B8B475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2B7C62D-6CB5-4125-ABF8-7175B0F4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D3DD13E-80C9-46FE-83FB-503BB0AA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7159729D-0E80-436C-8930-AAB69774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8F43CEB-54BA-40C0-843C-54909037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287781E0-327E-4917-A841-ACBFEEFE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3716C66-093B-45D4-956D-8B0D311E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4F11F-7308-4D34-9E59-465BDCFF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687E423-B36A-4550-8EA0-D903F2F4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C186B70-6C06-4076-8C16-21772AE0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165219E-A266-4215-976D-1BF7356B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43FBD30-C5D4-4CA2-B9F3-E286FD98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E2CF2EF-A73D-4D13-849C-8CE4030F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3848E6F-90F1-4250-AFB0-4A1F1E9E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917BB7F-370E-4E40-9AA5-1D1D0FC4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B96C5D0-43FE-4326-A994-FDF1ACBF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5BE2027-FD30-4452-B83F-461D19C3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543475A-1574-4FC3-818B-1D30E665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46C3B-BD87-413A-8287-A31AAE5B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392B79B-9D98-4AB3-9563-21BCF6D0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08E23ECE-F4D1-4AB4-8DF2-DA46E6AA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A39BA19-A1D4-43CB-B54A-759A1859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9B3493B-BC9B-4C79-A26B-92E18351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68436E0-CEDC-46FA-8CF1-B01B16AB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C10626B6-BD9E-4A85-98DE-94510C88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065C7BF-0BA2-4DC9-AC33-26E14A31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C74294A-FB8F-420C-878C-065BD626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0D4E72F-7FA2-44B6-9EAD-9C5047D1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6627259-37EB-45A6-8E51-5E7566AC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2AC1E-2B1C-4508-AEC1-9B59281D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BB762242-733E-493B-A7C5-24618C33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FDF25DC-2AE7-4EEA-A13C-A34F245B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DDBE561-A3B7-4C06-81F3-F699EC35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42973C7-72DB-4B85-B39E-7DEE9F20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C6500F8-12DC-498F-8865-8DC4669A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F522F66-3C6A-4E11-AEE6-9C1A1E8C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2C9BD72-B717-46E3-8285-1D0DBB75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1DCAE49-2F45-468B-BC68-AEB21A97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C350771-596C-4D59-B223-26FDEEFB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4065DB1-576A-4B56-B8F7-1CC4EC86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38260-405D-4C0D-847A-B1554716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8C3999B-1B05-41C6-B3E5-D3904236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14DA23E-8652-4013-853C-478322EE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11896F9-9E3F-4A4F-B705-03F7FA50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7607CD2-E75B-4CF8-B8F4-665E08E3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90C75DE-EA55-4E98-81A1-B17CF66E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8036193-340F-4576-8BD8-9B862684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E18839E-F0B2-425B-9DBF-04C75C26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DBEB8A1-4E33-4BD8-B82E-B190B8AC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F3DF92E-6902-49CE-920A-6E22FAEF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DEB74AF-7B75-4D60-AA97-6C59E6A3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890DE-D0DA-4F63-B61D-0983E279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6B16DEE-F49E-4B5A-9D34-69FEF066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0D47006-3D45-41B1-8C51-376CE2B1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D6C6171-2030-49FC-9A6A-60B8EB53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39FB2C2-DAB8-4B9E-B7B2-63D982EB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D7E026D-E0E2-4A48-8D9B-CC020126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74B44E7-4E16-48D9-9854-77E0F10B2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5CFDE0E-7B35-4D28-89B4-F0E4D24E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FA452D3-F19B-4C4B-B638-2A2DAD9C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285B68D-C8B3-4639-8404-3DECEDDA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DDFDAC6-9297-43A4-9134-C473CFFE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2452A-56F8-4A68-A587-A4B92295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331875A-EE28-46FC-A330-5A12DD4E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E01CB75-5853-4CB6-A3C3-64C7386B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F67A1AE-98AB-42F7-B6A3-5A87637F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8618C7F-AF9C-4498-A48B-886A17F7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70D73F2-67CD-44FE-9089-F913ECCD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5C98A8C-10C2-44E4-831C-1064831C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55CCC48-9BF3-4E4A-9BA7-D79C5A4A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1313C87-0CA5-4124-B5A1-C71DB855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F91394A-41AE-4D33-B222-93D560F5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09B82F65-2352-4568-8BCE-F001BE06B96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5CA96-CBB5-4F9A-A900-2D0EE9D8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A123F02-579C-4042-BB24-0DF54D366B85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C6ED2DEE-3234-4C75-ACAE-A656B03E27A5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9F20D2D-CFF1-41AF-8DA5-A1DF02F4C05E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4BE6F18-E2D5-433E-A0A0-794AA2BB2780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9E8421D7-5F34-4313-B210-EF471BF89DC2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F9F7007-F046-4FD7-A026-85243F3221F9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083729CF-FFF3-43DE-ABA5-8FE1F80494B7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40161E6-E6AA-455C-A2CA-3AC385C188AC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6CC232C-3B26-4A1F-83E8-D794D21EED96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8B0B4C2-8420-48D2-87F2-69DE472C5E2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04E13-7C93-4AA9-B525-BCCC548E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C012C8B-DF6B-464E-91FF-631CD01E7BC7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C79644F-0F20-477D-B81D-197A270A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118A3C26-6B9D-45CE-AC6A-D913400A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DF564C0-1070-4899-AF9D-59FE720F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6F7FDE1-1C23-4C32-A029-FA47EFFF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53D83CD-1587-4E49-BC4A-F1E3AB52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9352244-FDA6-4D7A-A681-3DE149BF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2A7646D-82CC-490E-853C-8447B456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94B8594-2417-4C88-8396-A88EF1B5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1CB87EF-718C-4F00-8A33-F8F58B57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A0D96-0870-48AE-A1FD-422E9ED3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2F343B8-7EAA-4D2A-8F2D-930D99E7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2DCBBEF-B0D9-43F0-9ACD-A3BF2418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29246BF-274F-4094-AAEB-F5792B5D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E075A3D-39C2-4C38-AB22-3CA0E6F2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A92FD48-C82B-41D3-B031-1744ADDF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0D96DEA-5499-46C9-96CC-E82BD7A3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DE83854-A777-46FF-9AD4-5DB2B1E8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FC35F3C-6FCB-4820-9324-2D3EF9C1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ABB5A45-5A40-45F8-971E-0471F395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E7FE15D-A3A6-44BC-99E1-FA23DF88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051-C2A6-415A-8528-B6DECA3F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97D01-7C53-492B-8F7F-66925A51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68E3B49-93A1-4356-8152-06710BC7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D2C95BE-566A-4E9A-94EE-D83A4B4B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D36848B-A064-4316-802A-151DEE9F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8A39EC0-EA2E-4A98-B53D-AC5B6F55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32A0221-4737-42B5-846E-E1582F7C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12B28DE-5B2E-462D-8142-C65EC9C9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F819787-DFAE-47EB-B02F-7F315548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A62EF2D-55C3-4B83-8CE9-8F1966A5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21DD2B8-DA92-4B3A-A59B-50504516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7660363-71D1-420D-9BF7-2E39EE98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81EAA-510B-45E5-8A76-0BE7D4E2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C7BC092-7546-4903-8B73-78AFE6CF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713AFEE-C35E-4BF7-8704-4F2D0B3D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6DC476C-A213-4619-9E8A-53424DE1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13105B5-84CD-42C3-9B6D-04AA38AE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8ED93D7-67CB-4B1C-84F4-607072A8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665A7B4-32A1-465D-BF45-FEA71D43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F057616-FDD5-4A1C-89B6-50F672B1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6BDCE21C-9212-4E76-BD6E-0AF7B59D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D2A1613-5B89-4940-9288-3528A100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A134E7B-B8BA-4C2C-AD9B-ED292ADC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AD2F2-1924-4FE5-B855-FDF05151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EB2BFE7-8137-4185-8ACD-480F216D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8EE3C5D-576D-4185-AD3B-C2C319A9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E529956-CF0C-4751-A70C-08924B73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555BE7C-9F4F-4900-9348-3F324CAC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30656E3-B3DA-4BDF-B261-323E2635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13809BF-8FFD-42AF-A354-BCAC5A47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63D4BE1-69C6-4B8E-BCD8-61AB929D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0881DA0-7BE4-4EB6-BCFE-960BB629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2A9AE32-E64A-4EA0-90C5-1303F7A8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26CF723-45BE-475E-BAC6-9FF75AD5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0E19B-326D-4C29-83EE-783DC693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8E4F28E-5223-499B-8E48-A75DB2CE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399DD58-6DD4-4638-9AEC-2586E034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EF52A6A-EDCC-47CD-A086-5F314182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C4A983F-7E5A-4938-88EB-953F0047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3232A34-B9D4-440E-8C0A-0341872F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A46C2D4-4E78-4F8D-A7B0-8FD43571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A228C71-7242-4CF7-8754-4A359865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BA927B9-8EBE-40D4-A64A-4D1F466C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2BFC1B6-206E-4B59-A22C-8142D54B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382584E-90CE-4F70-9153-FF9E234E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47790-2AE2-43F1-86CF-EF4F8DF5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A9914B9-7F9D-4584-8E6A-2A697E5D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10D9F7B-D113-4EE5-9500-8F9DC434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B6529D0-0919-45BF-BB9D-593B3B40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315A254-72D9-4B38-94A2-040A82D0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D532CA1-04E9-489D-9405-9874D0A9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09EA1C7-C15B-4544-9710-F42235DE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D82090B-1449-4BE6-A5D7-8DDFCF1E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1731F45-874A-4FD9-84CC-8E001B28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400BAA7-50BF-486A-8BD9-D29592B2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0924312-B121-43AB-B2B9-F1FC176C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1A662-FF17-4C43-8A06-1759E75A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A050111-BB50-4B4C-8180-155150D2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8D6BDDF-5584-4907-A3E0-8484161D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1EE6F0E-1FA3-404F-9FC6-8C6F71AE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69F5AD5-B45F-44CD-92D3-91818F9B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17019FF-3E07-4C79-817E-4C1EE6AA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EC7584E-DEE1-4535-99CF-49106CF8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E1DF9D5-2F0C-4985-AD8B-0E32E1F3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147CB70-FEF9-4446-A70B-E05B0BB1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4959B2E-B542-41B9-8BF6-0E0EDEAD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7806DC6-68FE-4C4E-8812-6B726F13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EF4BC-0846-4FD1-A33A-AB5754A4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D9AF58E-1928-4714-9D3B-543AE382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5301A57-727A-4E57-8204-9C87CA7B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14A4F5F-E960-4F83-9C20-E3638D6E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CF4CF61-42A3-453E-BB02-F2C1FDFF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523CB9D-E01A-4D70-BB92-331115D6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68C9E7B-147B-4FCD-B20F-132E9093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9C6814C-081C-45C0-BDDF-8EB70AFA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CA225CD-7A7B-4081-9D19-FBCC17D3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2AF6288-1474-47CE-9167-4383847C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BBF07B2-A763-4F73-B314-FAA1F702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4F989-DFA0-4B93-A1A5-3AC1DC04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2CFD963-8497-4F58-A1F6-4DE84844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4385DD2-A003-462E-AEF6-018904B7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794A982-1E5F-4742-BF1B-B3D15095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BA19A37-7745-45BE-BDB7-1F813595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768BAC1-A2FC-40E3-A2D0-B42289A6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3B85243-EBD4-4EB9-99FC-0A0DB606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7B11623-581D-44ED-8618-97FE02EF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FFEB6B6-75E6-4D4C-98D7-AD38CD68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8CA9BE6-30F0-44F9-A92E-FE4E1A61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BD2CB64-83A4-4C91-A870-F9093A4A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BC931-1E30-4634-9C24-E4DE3B85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1BE2714-89F3-4B19-BA53-B4534370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0DBA33D-33CA-41E6-8CB5-6161AB65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20DF770-368E-4D4D-9E03-704FD21F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FA9C643-1B0E-4BF4-BCCE-67C609B3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B0E11CA-C8FB-4F86-A944-C49825D1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30DCAF5-776F-4A44-BC73-5C92FBA8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278D2C7-F4BD-4867-B977-30CDA0DA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CB88EC4A-AEBC-4465-A40C-41CD6FCC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5E138C3-4263-4CDC-9E83-6DCC654F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0E7A2AD-F8F2-4C3A-AFD0-295527A9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A5F6E-AE7B-40A5-9736-779EDDC3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6BE03B9-5ACC-4BFE-A5DE-6A1A6558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4F544F3-0729-4140-A4B2-C7A582F9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C8C7E6E-5AF3-4398-9FE5-29352041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A86B2FE-5F43-4965-BFC9-F4612A11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3A1359E-859A-4D17-B0DA-216F209E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925667D-E5EC-44A4-A54A-DAC72ACB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6CE4BDD-7476-4C75-99CF-1B983F87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11315B0-4129-4C71-B4D3-309147BD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5310B69-AA32-47A5-8A7E-CF77B3B9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47B5266-974C-420D-B81B-2F76FA28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785-0B44-4C51-B6FA-B33182DD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1BC68-8502-4B69-9EF1-660E935E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28B16E2-27C9-4350-B075-185FB6E8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51FC343-1044-4E38-9157-0CCCCF8E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F74F3AD-1F77-4032-B1F5-36C470C1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2A716CF-A7CA-4F7D-A049-8B4B5491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62D1140-6DA4-4770-9928-638502BB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E0240FF-F9DB-4E52-B6D9-59433CD3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36E8555-6C00-4ADB-82CF-34643E3F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9638FB4-51F6-4DAC-B1EA-EF7412B7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ED2B384-9EEB-446D-9EBD-3F06C846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1BBADA9-B815-4F4A-A1CA-60DEFC6F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45791-E51A-41E0-96D1-2A2CCFA4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DA99B6F-FD46-4647-9817-AA150910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0149942-8C1B-43B7-A6E6-5D48C02F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03E861D-D768-4B07-9F6C-113B4623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D48D47F-6BA0-438C-9C6F-3DC545AD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439D10E-F03D-44BE-B3AB-10E6A0BC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D965FBA-3119-41AF-8494-938A4473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D79B5B5-7102-4515-A1CE-463DD627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8688189-833B-4732-A954-F744DB62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72B7180-8A12-484C-BC49-01E18BE6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65F1F3A-8146-4AA6-A19A-ADB58AC8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FB67B-2D0B-43B4-A3F9-5C413035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DD6B3A8-194D-4F51-A2A3-B6069BA8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33F2C16-AF63-4DEE-BD94-305D6B88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A8923CA-4ACF-47EE-8023-385793FE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52D6B2E-2B89-4097-8DC6-AF4E6A25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77A7F23-540D-4A8E-96A7-3468052D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798F3D2-F383-4158-9114-7DF7DBAA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95CB18A-AC36-42BA-B453-4D2C8284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671A209-716E-4B5C-99B6-F0593591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012430B-EDFF-457C-8E70-9E43AF11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2E03660-259A-459D-9BA7-1F8A27D1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5C695-96C4-4AC4-AA71-FDD083CA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BC1EF73-0A8A-486C-B102-1D970556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E2A4DC1-22A4-4E99-B817-1CE5D0B3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28DB9B2-A61E-4BB5-BECF-1592048E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2F2156E-2325-41AF-BF28-297D6C68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FD8F8228-8351-4DD7-B5FF-B7EA28BF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826F44D-DC05-4E86-902D-CD906BB9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7E67A5B-47C0-486C-AF55-5BB3C75A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1550BBD-DDFA-4C6B-B203-280DA7D9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6A112A6-E45D-4D6D-903E-04DD2648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C2B8ACF-CB50-485D-A47F-5DD5ED41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42669-CBA3-4C85-ABF4-FAA6C8AA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14C77A1E-BD7C-4642-A28E-4A00A772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61939F5-28FD-4F71-8A4B-C8F31115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43637F4-B107-49B2-BBEA-D491BDA4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9339051-248A-42C6-9493-173FB70D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204918D-C5C0-4380-AFDD-010E6025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7B5E2F5-D22F-47C9-A316-1EBCEE0E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FDCA1DD-0778-44A1-8184-44573471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D75C358-AD7D-4304-AF18-22BA268C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6D23661-37D1-43D9-8B36-6693546C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F3CEA5A-59C7-4345-BFFD-3A966D12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69668-665F-4075-BDD5-E997BD79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CD99D43-D009-495B-A353-E32F9120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076A8D2-82A6-4987-A284-7FA94DA3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C6C5713-3255-4F1F-A09D-325FE172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92C5821-E054-4AD6-8811-48D30FEC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5EF9242-3B75-418C-AB15-42B65DF9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F99DEE1-1C27-4E40-9909-AAF868DF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8C3857B-8A1B-4D74-941B-B5046129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42BEE02-FE6E-47C7-983A-CF11015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2A5EC68-A864-4955-9291-6B97E5C0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C439E2B-9421-4293-960F-E69D8086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6583A-ECD1-46D0-97BB-0ABBA287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1FC60F41-D28F-4F09-BC8B-D959C945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EB33C26-5839-49CA-8D1F-B5E0B7ED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A5E8317-D050-4CB8-9EC2-666EBFA5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74996D4-E6D7-4CA1-ACB2-924059D8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DC5EB95-126C-47B9-8325-C72B1EC8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1DE8A1B-A693-48D4-A1DB-04B7719D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8351A01-301A-44D1-8ABD-87BBDCD3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151BD32-6AE4-45A7-9D13-B3130549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296516D-3A0A-4DB9-80D4-7DAFE5EB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B17F050-237D-4B5D-A327-896E5528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4C6AF-94A0-44D8-999A-39CA9E9F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25811B5-3BCE-487F-B1D7-8AC9F5C1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2ABB783-C281-4651-AA5F-DB9D4FF9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663AB1C-4E5D-4ED0-A0BB-460AB40D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06BE387-1C7F-4F0B-97E6-99CF20DD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4EB24C5-A415-4FCA-941E-D18B0DB4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86C2972-2428-4067-AAA3-A9CF30E4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7B72DA1-2B1E-4047-B1B9-403A5AE6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1E14288-3037-4441-A273-B564D813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6BD8531-2E9F-4C56-AC60-00701B2D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E623CE0-4BC2-435A-AE57-CD760C8E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DA00B-2FB3-4B2D-98F3-2650E63C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AD3A400-F83E-4743-BED8-99EE19D3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A25CBFE-156F-4D14-9DA9-767CFAC7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99552BF-6031-4AF2-A192-A9AA635A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BF111F2-3DDD-4E2A-B4A3-B5386F7A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69717D6-0703-455D-B21F-13282B36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5692E54-5ECD-4E58-9B88-6D29BA7E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2CC8777-1C6C-44A8-882D-C5D1DB77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64F1F6E-5D5F-4E05-86BE-B27FB540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2274C77-95FE-45F2-8035-977D29F8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DB7E659-224E-4B5E-892B-350D6EE3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1EBD4-608E-4525-9A70-3CA41401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91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A6A4DCA-CAC8-459B-9249-A8D9404E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DC36DA7-5B0C-4529-A603-521FA259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E2E153DC-0BFC-4B3F-839F-81B3C156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964C6F9-5FCD-4E5A-95F8-FEB07D10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9F501ED-9817-4992-A7BE-B52B9A6E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3AF27F5-5565-4CDA-8060-D9192C3E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644852B6-9E42-488F-875E-5935B957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A8EFED0-DB3B-48B8-9E34-96A5787A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81A8DA3-64B7-45E9-8E98-1B131D91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33E3890-E51B-474F-B1B1-76D9E47F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8331-5B38-4994-81BF-69D27CFE0134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BC1C2-DBD0-48DD-B7F7-79FEA730BAF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2EE2B-952E-40EF-AC54-72C598580B6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B7C76-4C04-4295-9A2F-FCC8AFB52B7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3AEB4-DBD0-4BC2-8ABA-CBB00BA45C0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648D8-6C0E-4FC2-B0FB-5DB05BC02C3C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CD66D-9ED2-40CF-B33C-F3354D7D6DE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E9798-F42A-4883-9976-920F55D4935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56121-8A4C-49CC-A31D-41472B059FD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4676A-A27D-4300-B4AB-D8F8404E7B5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E976-EB84-4D86-AEAB-6CA1060EC182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45A5ED-BCF9-4BB8-A3F6-33E2AB6F38E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DD8B8-C951-4545-B0AC-92317FF794A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115ED-2271-441B-A66F-4FA87DB9F0B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B3F1D-81CE-4738-8C38-06A7B9C013E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9F338-C554-4222-9703-FC51263AB21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07A47-49BA-4D20-9469-29CB0E2429C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7AF09-4953-4F69-A996-059C55BC045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A49ED-A747-4488-8E9D-84AA45EDBB0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20597-5110-4E97-9376-EA663B4D54C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FEACB-A430-4BBA-A533-817ABF80FC9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DFAB-2959-43A0-84BE-764C080587F8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1F1AB-CD26-4E61-BE12-49D48E0EF5D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F1FA3-4855-4F49-88CC-CDACB984205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739DE-6FB5-4CD5-8686-D93655A277E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43DC3-9360-4971-B45B-16A181FE5C0A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E9240-692A-42EB-B88E-33206AC9DA7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08187-CE44-4804-8340-EDA89D90C77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A974D-0001-4AF1-B994-7C3B1869F5F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41983-F8DC-459B-A4A6-161A300AFB1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 type="dt" idx="1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 type="ftr" idx="1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 type="sldNum" idx="1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DF9D4-0459-4046-BAF5-5386ED7BA25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 type="dt" idx="1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 type="ftr" idx="1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 type="sldNum" idx="1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40F11-F39E-49A2-84D9-4B043C36E016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8F9D2-14DE-41B3-AD41-6E734D2A66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 type="dt" idx="1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 type="ftr" idx="1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 type="sldNum" idx="1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5A45B-57AE-4794-ABB3-1B787AD54042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 type="dt" idx="1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 type="ftr" idx="1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 type="sldNum" idx="1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59943-DD94-4CF2-96BC-8EED3D7D75B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6A2C9-50EE-43D5-B500-968A4A4478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03148-BADF-4724-A286-FE6D6554D8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16E31-2F89-4755-8F31-0F934E1E0F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 type="dt" idx="1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 type="ftr" idx="1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 type="sldNum" idx="1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DD5E3-B437-46D9-A470-84DD7E6F08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 type="dt" idx="1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 type="ftr" idx="1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 type="sldNum" idx="1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59284-72D1-4CE6-9D0B-51BCC35EB4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1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1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1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DDB0B-FDDB-4E34-AAB1-D57554F0B8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dt" idx="1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ftr" idx="1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sldNum" idx="1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04FE8-6956-442D-A293-DB9A9F2182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4c6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A1CA-6351-4A8A-A76B-68AACB6AAF22}" type="slidenum">
              <a:rPr b="0" lang="lv-LV" sz="1200" spc="-1" strike="noStrike">
                <a:solidFill>
                  <a:srgbClr val="004c6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 type="dt" idx="1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 type="ftr" idx="1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 type="sldNum" idx="1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B346D-32D0-474E-BE97-F812F44DC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dt" idx="1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ftr" idx="1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 type="sldNum" idx="1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0EC2C-7FF2-4BD0-92F6-837BDD3B27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1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C481D-412E-43B9-A625-F681264911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dt" idx="1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ftr" idx="1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sldNum" idx="1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F6434-0D41-4464-B25F-9AB3B5B1E7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 type="dt" idx="1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 type="ftr" idx="1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 type="sldNum" idx="1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9D7B3-C9FB-4C13-8AF0-8760F7C9BC07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1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1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59453-5405-4BD7-B37D-9711A5570F8B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 type="dt" idx="1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 type="ftr" idx="1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5"/>
          <p:cNvSpPr>
            <a:spLocks noGrp="1"/>
          </p:cNvSpPr>
          <p:nvPr>
            <p:ph type="sldNum" idx="1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71131-6E77-4A59-925B-D09410357740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 type="dt" idx="1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 type="ftr" idx="1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 type="sldNum" idx="1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F114B-71B0-4BC4-8773-DE8E200E501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 type="dt" idx="1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 type="ftr" idx="1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 type="sldNum" idx="1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C2D74-9F7A-4D35-9B9F-BBCAEF836904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 type="dt" idx="1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 type="ftr" idx="1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5"/>
          <p:cNvSpPr>
            <a:spLocks noGrp="1"/>
          </p:cNvSpPr>
          <p:nvPr>
            <p:ph type="sldNum" idx="1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C4765-A5E1-4EFF-B142-C628232A615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35046-08D5-4869-96F7-317D3D49153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B5A02-EB8B-4788-82D2-1BFB19479B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6"/>
          <p:cNvSpPr/>
          <p:nvPr/>
        </p:nvSpPr>
        <p:spPr>
          <a:xfrm>
            <a:off x="555480" y="2235240"/>
            <a:ext cx="6651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70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F3A6A-A93E-466E-B4E9-08D38FCD5833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45562-DE44-4390-AD13-D9C2948551E8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E9CB1-5CC1-4B2A-9F7E-5317C8776CE5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00773-6C6D-4DE1-AF69-FB56C3E03B5D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DC5DD-BED6-43B4-8A3C-C14EC92DD379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Rectangle 11"/>
          <p:cNvSpPr/>
          <p:nvPr/>
        </p:nvSpPr>
        <p:spPr>
          <a:xfrm>
            <a:off x="6705720" y="63975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 type="sldNum" idx="1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4c6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 type="ftr" idx="1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5E80-CBA8-4E24-8F51-7C81EE641F06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7268-FDCC-43BF-AC40-783F1F72472E}" type="slidenum">
              <a:rPr b="0" lang="en-US" sz="10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0192-CD8B-469F-9D9A-5C16B1780B7C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2F7A-5251-4EF7-91B3-C3F39C0F878F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81CB-0BD5-4CF9-B871-436F51AD3847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A2E0-9C75-4708-ADDE-08F9332BC0E8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587A-C8AA-423E-96B0-6824D2AFB1E5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5070-95DA-4F9D-9236-1DBDED495027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3A089-B541-4C05-ADDE-B3E0A0DB59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A35C-895E-4C83-838D-C6661B5EC217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24DD-28E7-41B8-89EE-13A9DDC63C99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5F56-FEEB-4270-B497-FB48A2CC3839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2EBE-E423-425B-928E-94C09CAA45FB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AC55-5B58-4E97-8EB8-3FD13E9A5081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81E2-95FC-455E-8D28-EB0EC84355C4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D9F2-E00A-4ED5-9E58-D89037E230ED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3B0A-7BEF-4D40-8CCC-E454B48E509B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BC9E-3230-4A87-A42F-BD5A9E6A4B2E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FDC4-C4F3-42BD-9A32-DF3FEA0C8CA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FDD9-2DE9-4568-A3F2-2F9D15F12EF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7B7F-6D1E-42D1-9A44-81CA870C88D2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B9E4-2C01-4B3D-9137-63394BF396A2}" type="datetime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1801-BAD6-4F09-8256-307473B4076A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417E6-050B-4C5D-94A1-A86633748F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A160B-3F5C-4C88-A66D-0E61FCCC70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24481-ED59-4281-B1D6-6D0FC6AF56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06056-513A-45C6-BF12-CAF9DA65BF3F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D4A97-B3DE-4894-947D-065F83A592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5024E-435E-4EED-BB76-18E26A7395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A1338-8A1E-447C-B74B-BFCDF10DC5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9A314-E5E9-4B94-B239-78E5DFE511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BCFF6-4E02-40CE-9C1C-DCC48FA1D4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B5EDD-429C-48A4-9E4D-93C13722E7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F0C94-5ABF-48E5-A3A2-A692322E7A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A8E6B-4991-4BA1-89EA-69B094B849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4c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4c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4c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6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200" spc="-1" strike="noStrike">
                <a:solidFill>
                  <a:srgbClr val="004c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006EA-6BCD-49B8-A9E6-5FF08C86A2DE}" type="slidenum">
              <a:rPr b="0" lang="lv-LV" sz="1200" spc="-1" strike="noStrike">
                <a:solidFill>
                  <a:srgbClr val="004c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8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ltum.lv/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lv/url?sa=i&amp;rct=j&amp;q=&amp;esrc=s&amp;frm=1&amp;source=images&amp;cd=&amp;cad=rja&amp;uact=8&amp;ved=0CAcQjRw&amp;url=http://www1.basket.lv/lsbl/lsbl/news/3377&amp;ei=PcgjVa6NFMmsswHS_IDYBw&amp;bvm=bv.89947451,d.bGg&amp;psig=AFQjCNEwfTVpJbmHWhTqLq4-9EerOE5Z6Q&amp;ust=142849476037143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0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37600" y="1152360"/>
            <a:ext cx="872676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04920" indent="0" algn="ctr">
              <a:spcBef>
                <a:spcPts val="1199"/>
              </a:spcBef>
              <a:spcAft>
                <a:spcPts val="1800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Eiropas Sociālā fonda projekts</a:t>
            </a:r>
            <a:br>
              <a:rPr sz="2800"/>
            </a:br>
            <a:r>
              <a:rPr b="0" lang="lv-LV" sz="2800" spc="-1" strike="noStrike">
                <a:solidFill>
                  <a:srgbClr val="ffffff"/>
                </a:solidFill>
                <a:latin typeface="Century Gothic"/>
                <a:ea typeface="MS PGothic"/>
              </a:rPr>
              <a:t>«Atbalsts sociālajai uzņēmējdarbībai»</a:t>
            </a:r>
            <a:br>
              <a:rPr sz="2800"/>
            </a:br>
            <a:r>
              <a:rPr b="0" lang="lv-LV" sz="2000" spc="-1" strike="noStrike">
                <a:solidFill>
                  <a:srgbClr val="ffffff"/>
                </a:solidFill>
                <a:latin typeface="Century Gothic"/>
                <a:ea typeface="MS PGothic"/>
              </a:rPr>
              <a:t>vienošanās Nr. 9.1.1.3/15/I/001 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ffffff"/>
                </a:solidFill>
                <a:latin typeface="Century Gothic"/>
                <a:ea typeface="MS PGothic"/>
              </a:rPr>
              <a:t>Finanšu atbalsta saņemšanas nosacījumi</a:t>
            </a:r>
            <a:br>
              <a:rPr sz="2800"/>
            </a:br>
            <a:br>
              <a:rPr sz="18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1069560" y="3674880"/>
            <a:ext cx="68929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580" name="Title 1"/>
          <p:cNvSpPr/>
          <p:nvPr/>
        </p:nvSpPr>
        <p:spPr>
          <a:xfrm>
            <a:off x="520560" y="2408400"/>
            <a:ext cx="7993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Rectangle 3"/>
          <p:cNvSpPr/>
          <p:nvPr/>
        </p:nvSpPr>
        <p:spPr>
          <a:xfrm>
            <a:off x="3009960" y="3772080"/>
            <a:ext cx="570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2" name="Picture 6" descr=""/>
          <p:cNvPicPr/>
          <p:nvPr/>
        </p:nvPicPr>
        <p:blipFill>
          <a:blip r:embed="rId1"/>
          <a:stretch/>
        </p:blipFill>
        <p:spPr>
          <a:xfrm>
            <a:off x="150840" y="5668920"/>
            <a:ext cx="5246640" cy="10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9" name="Picture 4" descr=""/>
          <p:cNvPicPr/>
          <p:nvPr/>
        </p:nvPicPr>
        <p:blipFill>
          <a:blip r:embed="rId1"/>
          <a:stretch/>
        </p:blipFill>
        <p:spPr>
          <a:xfrm>
            <a:off x="1990800" y="2619360"/>
            <a:ext cx="1685880" cy="1571760"/>
          </a:xfrm>
          <a:prstGeom prst="rect">
            <a:avLst/>
          </a:prstGeom>
          <a:ln w="0">
            <a:noFill/>
          </a:ln>
        </p:spPr>
      </p:pic>
      <p:sp>
        <p:nvSpPr>
          <p:cNvPr id="3610" name="TextBox 3"/>
          <p:cNvSpPr/>
          <p:nvPr/>
        </p:nvSpPr>
        <p:spPr>
          <a:xfrm>
            <a:off x="5705640" y="480528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1" name=""/>
          <p:cNvSpPr txBox="1"/>
          <p:nvPr/>
        </p:nvSpPr>
        <p:spPr>
          <a:xfrm>
            <a:off x="5610240" y="2619360"/>
            <a:ext cx="2914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Labklājības ministrija</a:t>
            </a:r>
            <a:endParaRPr b="0" lang="en-US" sz="24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2181240" y="42195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3" name="Picture 10" descr=""/>
          <p:cNvPicPr/>
          <p:nvPr/>
        </p:nvPicPr>
        <p:blipFill>
          <a:blip r:embed="rId2"/>
          <a:stretch/>
        </p:blipFill>
        <p:spPr>
          <a:xfrm>
            <a:off x="4687920" y="1589040"/>
            <a:ext cx="1141560" cy="1116000"/>
          </a:xfrm>
          <a:prstGeom prst="rect">
            <a:avLst/>
          </a:prstGeom>
          <a:ln w="0">
            <a:noFill/>
          </a:ln>
        </p:spPr>
      </p:pic>
      <p:pic>
        <p:nvPicPr>
          <p:cNvPr id="3614" name="Picture 11" descr=""/>
          <p:cNvPicPr/>
          <p:nvPr/>
        </p:nvPicPr>
        <p:blipFill>
          <a:blip r:embed="rId3"/>
          <a:stretch/>
        </p:blipFill>
        <p:spPr>
          <a:xfrm>
            <a:off x="4687920" y="397368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3615" name="Straight Arrow Connector 9"/>
          <p:cNvCxnSpPr/>
          <p:nvPr/>
        </p:nvCxnSpPr>
        <p:spPr>
          <a:xfrm flipV="1">
            <a:off x="3743280" y="2418840"/>
            <a:ext cx="838800" cy="529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6" name="Straight Arrow Connector 16"/>
          <p:cNvCxnSpPr/>
          <p:nvPr/>
        </p:nvCxnSpPr>
        <p:spPr>
          <a:xfrm>
            <a:off x="3676680" y="3886200"/>
            <a:ext cx="867600" cy="5342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17" name="Straight Arrow Connector 22"/>
          <p:cNvCxnSpPr/>
          <p:nvPr/>
        </p:nvCxnSpPr>
        <p:spPr>
          <a:xfrm>
            <a:off x="5238360" y="2847960"/>
            <a:ext cx="1080" cy="9626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Atbalsta saņemšanas soļ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9" name=""/>
          <p:cNvSpPr txBox="1"/>
          <p:nvPr/>
        </p:nvSpPr>
        <p:spPr>
          <a:xfrm>
            <a:off x="752040" y="134316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retendent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jas LM Pasākuma dalībnieku reģistr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sakās ALTUM granta finansējuma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esniedzot pieteikuma dokumentus ALTUM reģionālajā centrā vai konsultāciju birojā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zvērtē iesniegtos dokument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izvērtē biznesa plānu, atbilstību komercdarbības atbalsta nosacījumiem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ieņem  lēmumu par granta finansējuma  piešķiršan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97240" indent="-452520" algn="just">
              <a:spcBef>
                <a:spcPts val="3600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LTU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un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oslēdz Granta līgum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biznesa projekta īstenošana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sp>
        <p:nvSpPr>
          <p:cNvPr id="3620" name="Down Arrow 4"/>
          <p:cNvSpPr/>
          <p:nvPr/>
        </p:nvSpPr>
        <p:spPr>
          <a:xfrm>
            <a:off x="4305240" y="202896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1" name="Down Arrow 8"/>
          <p:cNvSpPr/>
          <p:nvPr/>
        </p:nvSpPr>
        <p:spPr>
          <a:xfrm>
            <a:off x="4305240" y="3495600"/>
            <a:ext cx="466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Down Arrow 9"/>
          <p:cNvSpPr/>
          <p:nvPr/>
        </p:nvSpPr>
        <p:spPr>
          <a:xfrm>
            <a:off x="4305240" y="5162400"/>
            <a:ext cx="466920" cy="209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TextBox 1"/>
          <p:cNvSpPr/>
          <p:nvPr/>
        </p:nvSpPr>
        <p:spPr>
          <a:xfrm>
            <a:off x="324000" y="119880"/>
            <a:ext cx="79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800" spc="-1" strike="noStrike">
                <a:solidFill>
                  <a:srgbClr val="ffffff"/>
                </a:solidFill>
                <a:latin typeface="Century Gothic"/>
              </a:rPr>
              <a:t>Konsultācijas un apkalpošana visā Latvij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4" name="Picture 2" descr=""/>
          <p:cNvPicPr/>
          <p:nvPr/>
        </p:nvPicPr>
        <p:blipFill>
          <a:blip r:embed="rId2"/>
          <a:stretch/>
        </p:blipFill>
        <p:spPr>
          <a:xfrm>
            <a:off x="1422360" y="1125360"/>
            <a:ext cx="6622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TextBox 1"/>
          <p:cNvSpPr/>
          <p:nvPr/>
        </p:nvSpPr>
        <p:spPr>
          <a:xfrm>
            <a:off x="982800" y="1773360"/>
            <a:ext cx="74372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a pieteikuma dokumentu izvērtēša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entury Gothic"/>
              </a:rPr>
              <a:t>Grantu izsnieg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lv-LV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Ilona Beizītere, ALTUM Kredītu un garantiju 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ffffff"/>
                </a:solidFill>
                <a:latin typeface="Century Gothic"/>
              </a:rPr>
              <a:t>       departamenta analītiķ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Iesniedzamie dokumenti ALTUM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7" name=""/>
          <p:cNvSpPr txBox="1"/>
          <p:nvPr/>
        </p:nvSpPr>
        <p:spPr>
          <a:xfrm>
            <a:off x="714240" y="1304640"/>
            <a:ext cx="76010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pieteikums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Biznesa plān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jāapraksta esošā un plānotā uzņēmējdarbība, iecerētais biznesa projekts, jāpamato nepieciešamais grants, tā izlietojums un apmēr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Naudas plūsm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parāda biznesa projekta ieviešanu finansiālā izteiksmē vismaz par 2-4 gadiem un demonstrē finansiālos rezultātus gan projekta ieviešanas laikā, gan pēc tā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ietekmes izvērtējum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biznesa projekta līmenī (par šo </a:t>
            </a: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zinumu sniedz LM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Citi dokument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atbilstoši projekta, uzņēmuma veidam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578880" indent="-4388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Biznesa plāns – plānotā projekta aprakst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9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Vispārīgā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ņēmuma apraksts un mērķ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4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Tirgus un konkurentu aprakst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5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dukta / pakalpojuma realizācija un mārketing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6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ealizācijas apraksts, apjoms un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nepieciešamā finansējuma pamatojum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7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Projekta riski un problēma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8.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 būtiska informācija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a veidlapa būs pieejama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43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audas plūsma – projekta gaita finansiālā izteiksmē 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1" name=""/>
          <p:cNvSpPr txBox="1"/>
          <p:nvPr/>
        </p:nvSpPr>
        <p:spPr>
          <a:xfrm>
            <a:off x="714240" y="1305000"/>
            <a:ext cx="7601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1.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Dokumentu veidlapas būs pieejamas </a:t>
            </a:r>
            <a:r>
              <a:rPr b="0" i="1" lang="lv-LV" sz="2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www.altum.lv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14616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32" name="Picture 1" descr=""/>
          <p:cNvPicPr/>
          <p:nvPr/>
        </p:nvPicPr>
        <p:blipFill>
          <a:blip r:embed="rId2"/>
          <a:stretch/>
        </p:blipFill>
        <p:spPr>
          <a:xfrm>
            <a:off x="270000" y="615960"/>
            <a:ext cx="876780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saņēmēja/ projekta dzīvotspējas izvērtējum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4" name=""/>
          <p:cNvSpPr txBox="1"/>
          <p:nvPr/>
        </p:nvSpPr>
        <p:spPr>
          <a:xfrm>
            <a:off x="301680" y="1257480"/>
            <a:ext cx="829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Biznesa dzīvotspēj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izvērtē noteiktus finanšu analīzes kritērijus, pamatojoties uz klienta iesniegto naudas plūsmu, biznesa plānā norādīto informāciju par projekta realizācij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Finanšu izvērtējum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ada pārskatu vai ienākumu deklarāciju izvērtēšan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vai nav nonācis grūtībās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VID nodokļu nomaksa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Uzņēmuma un 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Uzsācēju gadījumā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Īpašnieku, dalībnieku kredītvēstur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priekšējā pieredze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Līdzdalība projekt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spēja ieguldīt savus līdzekļus vai piesaistīt līdzfinansē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rivātpersonas, ārējs finansējums, bankas aizdevums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603360" indent="-45720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Citas pārbaude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-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saistītās personas, politiski nozīmīgās personas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izsniegšanas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6" name=""/>
          <p:cNvSpPr txBox="1"/>
          <p:nvPr/>
        </p:nvSpPr>
        <p:spPr>
          <a:xfrm>
            <a:off x="394920" y="1247400"/>
            <a:ext cx="8177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us izsniedz tikai mērķiem, kas norādīti Granta līgum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zmaksas saskaņā ar Granta līguma nosacījum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a izsniegšanas veidi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1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Rēķinu apmaksa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līdzekļu pārskaitījumi uz preču piegādātāja/ pakalpojumu sniedzēja kontu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iesniedzamie dokumenti: </a:t>
            </a:r>
            <a:r>
              <a:rPr b="1" i="1" lang="lv-LV" sz="1800" spc="-1" strike="noStrike">
                <a:solidFill>
                  <a:srgbClr val="00467f"/>
                </a:solidFill>
                <a:latin typeface="Century Gothic"/>
              </a:rPr>
              <a:t>rēķini, līgumi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, ja apmaksā pakalpojumu, pērk ražošanas iekārtu, preci gatavo pēc pasūt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2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eikto izmaksu kompensācija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ret pamatojošiem rēķiniem, līgumiem,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apildu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aksājumu uzdev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konta izraksti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3)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Granta avanss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pgrozāmiem līdzekļ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nelieliem maksājumiem, dokumenti jāiesniedz pēc izmaksām: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skaite par izlietojumu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pievienojot rēķinus, līgumus, maksājumu uzdevumus, kontu izrakstus, čekus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Darba alg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–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lgu sarak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darba līgumi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ākamiem maksājumiem: maksājumu uzdevumi, kontu izraksti u.tml.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Granta nosacījumu uzraudzība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8" name=""/>
          <p:cNvSpPr txBox="1"/>
          <p:nvPr/>
        </p:nvSpPr>
        <p:spPr>
          <a:xfrm>
            <a:off x="542880" y="1419120"/>
            <a:ext cx="78105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LTUM nodrošina atbalstītā biznesa projekta uzraudzību projekta īstenošanas periodā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u uzskata par realizētu, ja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līdzekļi izlietoti atbilstoši Granta līgumā norādītajam mērķi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un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ņēmums darbojas atbilstoši biznesa plānā noteiktaja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a izlietojuma atskaite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pēc biznesa projekta apguve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jānorāda projekta faktiskās kopējās izmaksas, t.sk., savs līdzfinansējums, izmaksu sadalījums pa posteņiem, sasniegtie saimnieciskie un sociālās ietekmes rādītāj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Neatbilstība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ja konstatē Granta līguma nosacījumu īstenošanas neatbilstības, ALTUM nepieciešamības gadījumā prasa skaidrojumus vai situācijas labošanu, lemj par izmaksātā granta daļēju vai pilnīgu atmaksas pieprasījumu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Rectangle 11"/>
          <p:cNvSpPr/>
          <p:nvPr/>
        </p:nvSpPr>
        <p:spPr>
          <a:xfrm>
            <a:off x="762120" y="4133880"/>
            <a:ext cx="733716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A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Kredītu garantij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Riska kapitā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Times New Roman"/>
              </a:rPr>
              <a:t>Nefinanšu: konsultācijas, mento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1f497d"/>
                </a:solidFill>
                <a:latin typeface="Century Gothic"/>
                <a:ea typeface="Times New Roman"/>
              </a:rPr>
              <a:t>ALTUM atbalsta </a:t>
            </a:r>
            <a:r>
              <a:rPr b="1" lang="lv-LV" sz="2000" spc="-1" strike="noStrike" u="sng">
                <a:solidFill>
                  <a:srgbClr val="1f497d"/>
                </a:solidFill>
                <a:uFillTx/>
                <a:latin typeface="Century Gothic"/>
                <a:ea typeface="Times New Roman"/>
              </a:rPr>
              <a:t>ekonomiski pamatotus un dzīvotspējīgus biznesa projekt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TextBox 1"/>
          <p:cNvSpPr/>
          <p:nvPr/>
        </p:nvSpPr>
        <p:spPr>
          <a:xfrm>
            <a:off x="571680" y="149400"/>
            <a:ext cx="28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Par ALT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Rectangle 43"/>
          <p:cNvSpPr/>
          <p:nvPr/>
        </p:nvSpPr>
        <p:spPr>
          <a:xfrm>
            <a:off x="4670280" y="2362320"/>
            <a:ext cx="2851200" cy="676080"/>
          </a:xfrm>
          <a:prstGeom prst="rect">
            <a:avLst/>
          </a:prstGeom>
          <a:solidFill>
            <a:srgbClr val="004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Rectangle 44"/>
          <p:cNvSpPr/>
          <p:nvPr/>
        </p:nvSpPr>
        <p:spPr>
          <a:xfrm>
            <a:off x="1371600" y="3146400"/>
            <a:ext cx="3054240" cy="663480"/>
          </a:xfrm>
          <a:prstGeom prst="rect">
            <a:avLst/>
          </a:prstGeom>
          <a:solidFill>
            <a:srgbClr val="ca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entury Gothic"/>
                <a:ea typeface="Times New Roman"/>
              </a:rPr>
              <a:t>Lauksaimniek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Rectangle 45"/>
          <p:cNvSpPr/>
          <p:nvPr/>
        </p:nvSpPr>
        <p:spPr>
          <a:xfrm>
            <a:off x="4670280" y="3146400"/>
            <a:ext cx="2851200" cy="663480"/>
          </a:xfrm>
          <a:prstGeom prst="rect">
            <a:avLst/>
          </a:prstGeom>
          <a:solidFill>
            <a:srgbClr val="6bc2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dzīvotā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Rectangle 46"/>
          <p:cNvSpPr/>
          <p:nvPr/>
        </p:nvSpPr>
        <p:spPr>
          <a:xfrm>
            <a:off x="1371600" y="2362320"/>
            <a:ext cx="3054240" cy="676080"/>
          </a:xfrm>
          <a:prstGeom prst="rect">
            <a:avLst/>
          </a:prstGeom>
          <a:solidFill>
            <a:srgbClr val="00a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Biznes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zsācēj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Taisnstūris 1"/>
          <p:cNvSpPr/>
          <p:nvPr/>
        </p:nvSpPr>
        <p:spPr>
          <a:xfrm>
            <a:off x="466560" y="13622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lstij piederoša attīstības finanšu institūcija, kas papildina privātā finanšu tirgus piedāvāj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ALTUM un sociālie uzņēmumi –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 ir piemēri!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0" name="Rectangle 2"/>
          <p:cNvSpPr/>
          <p:nvPr/>
        </p:nvSpPr>
        <p:spPr>
          <a:xfrm>
            <a:off x="314280" y="1333440"/>
            <a:ext cx="850104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Mīksto rotaļlietu ražo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iepāj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Uzņēmums nodarbina cilvēkus n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Liepāja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redzīgo biedrīb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2012.g. -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izdevu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ekārtām rotaļlietu ražošanai, telp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īkojumam, apgrozāmiem līdzekļi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	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Specializētā transporta pakalpojum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cilvēkiem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r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īpašām vajadzībā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kustību, redzes traucēju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ēc operācijām utml.)- vizītes pie ārstiem, atpūta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izglītības pasākumu apmeklēju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-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2 piemēr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(Rīgā, Code)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Starta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,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Šve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mikrokreditēšanas programma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aizdevumi speciāl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                                     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transporta iegādei (2012. un 2013.g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1" name="Picture 2" descr="C:\Users\andrejs.buharins\Documents\78748.jpg"/>
          <p:cNvPicPr/>
          <p:nvPr/>
        </p:nvPicPr>
        <p:blipFill>
          <a:blip r:embed="rId1"/>
          <a:stretch/>
        </p:blipFill>
        <p:spPr>
          <a:xfrm>
            <a:off x="5429160" y="1400040"/>
            <a:ext cx="2809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2" name="Picture 2" descr="C:\Users\andrejs.buharins\AppData\Local\Microsoft\Windows\INetCache\Content.Outlook\CWR7DW9Z\186 (2) (6).jpg"/>
          <p:cNvPicPr/>
          <p:nvPr/>
        </p:nvPicPr>
        <p:blipFill>
          <a:blip r:embed="rId2"/>
          <a:stretch/>
        </p:blipFill>
        <p:spPr>
          <a:xfrm>
            <a:off x="399960" y="3781440"/>
            <a:ext cx="209556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TextBox 1"/>
          <p:cNvSpPr/>
          <p:nvPr/>
        </p:nvSpPr>
        <p:spPr>
          <a:xfrm>
            <a:off x="895320" y="895320"/>
            <a:ext cx="72057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3600" spc="-1" strike="noStrike">
                <a:solidFill>
                  <a:srgbClr val="ffffff"/>
                </a:solidFill>
                <a:latin typeface="Century Gothic"/>
              </a:rPr>
              <a:t>Paldie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andrejs.buharins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Century Gothic"/>
              </a:rPr>
              <a:t>Ilona.beizitere@altum.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Century Gothic"/>
              </a:rPr>
              <a:t>www.altu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4" name="Picture 2" descr=""/>
          <p:cNvPicPr/>
          <p:nvPr/>
        </p:nvPicPr>
        <p:blipFill>
          <a:blip r:embed="rId1"/>
          <a:stretch/>
        </p:blipFill>
        <p:spPr>
          <a:xfrm>
            <a:off x="3220920" y="3860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645" name="Picture 3" descr=""/>
          <p:cNvPicPr/>
          <p:nvPr/>
        </p:nvPicPr>
        <p:blipFill>
          <a:blip r:embed="rId2"/>
          <a:stretch/>
        </p:blipFill>
        <p:spPr>
          <a:xfrm>
            <a:off x="4221000" y="3860640"/>
            <a:ext cx="578160" cy="579600"/>
          </a:xfrm>
          <a:prstGeom prst="rect">
            <a:avLst/>
          </a:prstGeom>
          <a:ln w="0">
            <a:noFill/>
          </a:ln>
        </p:spPr>
      </p:pic>
      <p:pic>
        <p:nvPicPr>
          <p:cNvPr id="3646" name="Picture 4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57960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47840" y="115560"/>
            <a:ext cx="8588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Finanšu atbalsts sociāliem uzņēmumiem </a:t>
            </a:r>
            <a:r>
              <a:rPr b="0" lang="lv-LV" sz="2400" spc="-1" strike="noStrike">
                <a:solidFill>
                  <a:srgbClr val="ffffff"/>
                </a:solidFill>
                <a:latin typeface="Century Gothic"/>
                <a:ea typeface="MS Gothic"/>
              </a:rPr>
              <a:t>(2017 – 2022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1" name="Title 2"/>
          <p:cNvSpPr/>
          <p:nvPr/>
        </p:nvSpPr>
        <p:spPr>
          <a:xfrm>
            <a:off x="558720" y="1343160"/>
            <a:ext cx="781380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12 milj</a:t>
            </a:r>
            <a:r>
              <a:rPr b="0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. </a:t>
            </a: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EUR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- kopējais finansējum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programmas ietva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467f"/>
                </a:solidFill>
                <a:latin typeface="Century Gothic"/>
                <a:ea typeface="MS Gothic"/>
              </a:rPr>
              <a:t>200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plānotais atbalstīto sociālo uzņēmumu ska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            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(+ 20 – uzsācēji/ LM ideju konkursa uzvarētāj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ALTUM – LM sadarbības partneri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grantu administrēšanā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grantu pieteikumu/ biznesa plānu pieņemšana, izvērtēšana,  atbalsta piešķirš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izsniegtā atbalsta uzraudzība, kontrole, atbalsta saņēmēju datu iegūšana un iesniegšana 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2017.g. maijs/ jūnij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–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ovizoriskais laik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  <a:ea typeface="MS Gothic"/>
              </a:rPr>
              <a:t>  finanšu atbalsta uzsākšan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(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priekšdarbi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: MK noteikumu Nr.467 grozījumu apstiprināšana/ LM un ALTUM iekšējās procedūras/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  <a:ea typeface="MS Gothic"/>
              </a:rPr>
              <a:t>LM reģistra darbības uzsākšan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  <a:ea typeface="MS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1"/>
          <p:cNvSpPr/>
          <p:nvPr/>
        </p:nvSpPr>
        <p:spPr>
          <a:xfrm>
            <a:off x="426240" y="11592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pretend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3" name="Taisnstūris 2"/>
          <p:cNvSpPr/>
          <p:nvPr/>
        </p:nvSpPr>
        <p:spPr>
          <a:xfrm>
            <a:off x="895320" y="1380960"/>
            <a:ext cx="726588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Uz atbalstu var pretendē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Pasākuma dalībniek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– biedrības, nodibinājumi un komersanti (SIA, AS), kuri atbilst noteiktajiem sociālo uzņēmumu kritērijiem un ir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reģistrēti LM Pasākumu dalībnieku reģistr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Century Gothic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Sociālās uzņēmējdarbības uzsācēji 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– fiziskas personas, kuras plāno uzsākt sociālo uzņēmējdarbību, ir piedalījušās/ </a:t>
            </a: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uzvarējušas LM rīkotā ideju konkurs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u atbalsts paredzēts dzīvotspējīgu un ilgtspējīgu sociālo uzņēmumu biznesa projektu īstenošana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(</a:t>
            </a:r>
            <a:r>
              <a:rPr b="1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Grants nav pabalsts!</a:t>
            </a:r>
            <a:r>
              <a:rPr b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Rectangle 1"/>
          <p:cNvSpPr/>
          <p:nvPr/>
        </p:nvSpPr>
        <p:spPr>
          <a:xfrm>
            <a:off x="449640" y="11592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āmās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Taisnstūris 2"/>
          <p:cNvSpPr/>
          <p:nvPr/>
        </p:nvSpPr>
        <p:spPr>
          <a:xfrm>
            <a:off x="914400" y="1751040"/>
            <a:ext cx="72468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Ilgtermiņa ieguldīj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av ierobežojumu uz ieguldījumu veidiem, var finansēt arī nemateriālos ieguldījumu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grozāmie līdzekļ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pmācību/ konsultāciju izdev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Darba al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6" name="Picture 5" descr="http://www1.basket.lv/images/u/7b/survey_checklist_r_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4960" y="4613400"/>
            <a:ext cx="114300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Rectangle 1"/>
          <p:cNvSpPr/>
          <p:nvPr/>
        </p:nvSpPr>
        <p:spPr>
          <a:xfrm>
            <a:off x="437760" y="11592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Nozaru ierobežoju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Taisnstūris 2"/>
          <p:cNvSpPr/>
          <p:nvPr/>
        </p:nvSpPr>
        <p:spPr>
          <a:xfrm>
            <a:off x="676440" y="1562040"/>
            <a:ext cx="72961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Grantu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atbalstu nepiešķir šādās nozarēs vai jomā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istemātisku darījumu veikšana ar vērtspapīriem, nekustamiem īpašumiem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izņemot telpu iznomāšanu/ izīrēšan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Finanšu un apdrošināšanas darb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Sprāgstvielu, ieroču, munīcijas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lkoholisko dzērienu, tabakas izstrādājumu ražošana/ tirdzniec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zartspēles, derīb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Citas jomas, kas apdraud sabiedrības drošību un veselī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9" name="Attēls 3" descr=""/>
          <p:cNvPicPr/>
          <p:nvPr/>
        </p:nvPicPr>
        <p:blipFill>
          <a:blip r:embed="rId2"/>
          <a:stretch/>
        </p:blipFill>
        <p:spPr>
          <a:xfrm>
            <a:off x="7686720" y="1247760"/>
            <a:ext cx="1114560" cy="9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Rectangle 1"/>
          <p:cNvSpPr/>
          <p:nvPr/>
        </p:nvSpPr>
        <p:spPr>
          <a:xfrm>
            <a:off x="464400" y="115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</a:rPr>
              <a:t>Atbalsta apmē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Taisnstūris 2"/>
          <p:cNvSpPr/>
          <p:nvPr/>
        </p:nvSpPr>
        <p:spPr>
          <a:xfrm>
            <a:off x="590400" y="1238400"/>
            <a:ext cx="786780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Grantu apmērs no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līdz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0 tūkst.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tbalstu nosak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atbilstoši uzņēmuma saimnieciskās darbības apmēram un darbības pieredz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Aprēķinātais atbal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nepārsniedz 50% no pēdējo 3 gadu vidējā apgrozījuma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v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pēdējo 3 gadu vidējā bilances vērtība x 1.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Atbalsta aprēķinam izvēlas lielāko aprēķināto vērtīb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20 tūkst. EUR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- maksimālais atbalsts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jaundibināt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Pasākuma dalībniekiem/ uzsācēj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50 tūkst. EUR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– maksimālais atbalsts Pasākuma dalībniekiem </a:t>
            </a:r>
            <a:r>
              <a:rPr b="0" lang="lv-LV" sz="1800" spc="-1" strike="noStrike" u="sng">
                <a:solidFill>
                  <a:srgbClr val="00467f"/>
                </a:solidFill>
                <a:uFillTx/>
                <a:latin typeface="Century Gothic"/>
              </a:rPr>
              <a:t>ar darbības laiku līdz 3 gadiem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Papildus grantam biznesa projekta īstenošanā atbalsta saņēmējam jāpiesaista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10% līdzfinansējums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savi resursi/ ārējs finansējums, kas nav komercdarbības atbalsts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Darba algas izmaksu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3" name=""/>
          <p:cNvSpPr txBox="1"/>
          <p:nvPr/>
        </p:nvSpPr>
        <p:spPr>
          <a:xfrm>
            <a:off x="395280" y="1456920"/>
            <a:ext cx="80452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Darba integrācijas uzņēmumiem (DIU)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10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) 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99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uz visu biznesa projekta īstenošanas periodu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(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45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lāno nodarbināt vismaz 2 darbiniekus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0" lang="lv-LV" sz="1800" spc="-1" strike="noStrike">
                <a:solidFill>
                  <a:srgbClr val="00467f"/>
                </a:solidFill>
                <a:latin typeface="Century Gothic"/>
              </a:rPr>
              <a:t>(to skaits nav mazāks par: 1) 40% no ikgadējā vidējā darbinieku skaita, ja nodarbinās nelabvēlīgā situācijā esošus bezdarbniekus; 50% - ja nodarbinās personas ar invaliditāti, garīga rakstura traucējumiem)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Pasākuma dalībniekiem, kuri nav DIU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80%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no nodarbināto atlīdzības apmēra </a:t>
            </a:r>
            <a:r>
              <a:rPr b="0" i="1" lang="lv-LV" sz="1800" spc="-1" strike="noStrike">
                <a:solidFill>
                  <a:srgbClr val="00467f"/>
                </a:solidFill>
                <a:latin typeface="Century Gothic"/>
              </a:rPr>
              <a:t>(nepārsniedzot vidējo darba samaksu profesijā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r>
              <a:rPr b="1" lang="lv-LV" sz="1800" spc="-1" strike="noStrike">
                <a:solidFill>
                  <a:srgbClr val="00467f"/>
                </a:solidFill>
                <a:latin typeface="Century Gothic"/>
              </a:rPr>
              <a:t>uz 6 mēnešiem</a:t>
            </a:r>
            <a:endParaRPr b="0" lang="en-US" sz="1800" spc="-1" strike="noStrike">
              <a:solidFill>
                <a:srgbClr val="004c6f"/>
              </a:solidFill>
              <a:latin typeface="Century Gothic"/>
            </a:endParaRPr>
          </a:p>
          <a:p>
            <a:pPr lvl="1" marL="464400" indent="-325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Informāciju par vidējo darba samaksu profesijā ALTUM un Pasākuma dalībnieki var iegūt publiskās datu bāzēs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4" name="Attēls 1" descr=""/>
          <p:cNvPicPr/>
          <p:nvPr/>
        </p:nvPicPr>
        <p:blipFill>
          <a:blip r:embed="rId1"/>
          <a:stretch/>
        </p:blipFill>
        <p:spPr>
          <a:xfrm>
            <a:off x="7515360" y="1123920"/>
            <a:ext cx="1333440" cy="8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entury Gothic"/>
                <a:ea typeface="ヒラギノ角ゴ Pro W3"/>
              </a:rPr>
              <a:t>Citi būtiski atbalsta nosacījumi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6" name=""/>
          <p:cNvSpPr txBox="1"/>
          <p:nvPr/>
        </p:nvSpPr>
        <p:spPr>
          <a:xfrm>
            <a:off x="609480" y="1638360"/>
            <a:ext cx="76392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88880" indent="-342720" algn="just">
              <a:spcBef>
                <a:spcPts val="499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Biznesa projekta īstenošanas periods –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līdz 2 gadie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Atbalsta saņēmējs </a:t>
            </a:r>
            <a:r>
              <a:rPr b="1" lang="lv-LV" sz="2000" spc="-1" strike="noStrike">
                <a:solidFill>
                  <a:srgbClr val="00467f"/>
                </a:solidFill>
                <a:latin typeface="Century Gothic"/>
              </a:rPr>
              <a:t>var saņemt finanšu atbalstu vairāk nekā vienu reizi</a:t>
            </a: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, ja: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 u="sng">
                <a:solidFill>
                  <a:srgbClr val="00467f"/>
                </a:solidFill>
                <a:uFillTx/>
                <a:latin typeface="Century Gothic"/>
              </a:rPr>
              <a:t>atbalstītais projekts ir sekmīgi realizēts</a:t>
            </a: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, ko apliecina par iepriekšējo biznesa projektu iesniegta atskaite, gada pārskats par pilnu gadu pēc projekta īstenošanas beigām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buClr>
                <a:srgbClr val="0046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00467f"/>
                </a:solidFill>
                <a:latin typeface="Century Gothic"/>
              </a:rPr>
              <a:t>ir izpildīti visi iepriekšējā finanšu atbalsta līguma nosacījumi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467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  <a:p>
            <a:pPr lvl="1" marL="48888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f"/>
              </a:solidFill>
              <a:latin typeface="Century Gothic"/>
            </a:endParaRPr>
          </a:p>
        </p:txBody>
      </p:sp>
      <p:pic>
        <p:nvPicPr>
          <p:cNvPr id="3607" name="Attēls 1" descr=""/>
          <p:cNvPicPr/>
          <p:nvPr/>
        </p:nvPicPr>
        <p:blipFill>
          <a:blip r:embed="rId1"/>
          <a:stretch/>
        </p:blipFill>
        <p:spPr>
          <a:xfrm>
            <a:off x="6105600" y="4664160"/>
            <a:ext cx="2143080" cy="1427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07:08:15Z</dcterms:created>
  <dc:creator>Aira Leite</dc:creator>
  <dc:description/>
  <dc:language>en-US</dc:language>
  <cp:lastModifiedBy>Sistēmas Windows lietotājs</cp:lastModifiedBy>
  <cp:lastPrinted>2017-01-31T07:32:04Z</cp:lastPrinted>
  <dcterms:modified xsi:type="dcterms:W3CDTF">2017-05-03T08:06:16Z</dcterms:modified>
  <cp:revision>253</cp:revision>
  <dc:subject/>
  <dc:title>PowerPoint Presentation</dc:title>
</cp:coreProperties>
</file>